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chimes.wav" ContentType="audio/x-wav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5B57-4177-4C9B-827A-79014AC4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344B-CA60-413D-AF1D-C6A3059D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FF5C-5B24-4714-B39F-DFCE1C0F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6D4E-EBC7-4A74-BE0A-71F07F3F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688A-F04A-49D2-A638-64A1B36EE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4819-F981-4CBE-A4FC-FC2B06B5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B83E-C416-449D-9566-E8B89777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0663-AA77-4E73-BA8F-8079D381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BB06-D02D-42B2-B18E-653AEA25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4334-F6E8-46F8-8190-5B4DE819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6943-14A9-4816-9C65-D7721107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6EE9-CDC2-4B54-A330-8500F7B9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187C-6E4B-47C0-A759-EE2F031C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9ACB-2C1B-44DE-9ECD-13AD8C21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A4B5-B6CD-4FEB-99ED-5EE807A9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C223-5E05-4D16-9FF7-5402B414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F252-0B3F-4758-B0EE-BBC7DB05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EA8A-7D57-4957-94E2-EF112F37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94DF-0EC2-44B2-96CC-CA9D88AB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76EC-68FD-4B36-9F6C-65147723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B87C-EB5A-45B7-A81D-98F5F949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2625-9417-4FC9-8BA4-B7669562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F3F6-A2C9-486C-B002-EC53F7AB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3AB2-07B9-43CB-9D03-55D86B30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34920" y="117360"/>
            <a:ext cx="8928000" cy="6551640"/>
          </a:xfrm>
          <a:prstGeom prst="rect">
            <a:avLst/>
          </a:prstGeom>
          <a:solidFill>
            <a:srgbClr val="d6ee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0" y="0"/>
            <a:ext cx="360360" cy="260280"/>
          </a:xfrm>
          <a:prstGeom prst="rect">
            <a:avLst/>
          </a:prstGeom>
          <a:solidFill>
            <a:srgbClr val="155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7EDB-90CB-4AB4-98F7-4D4DBEAE0D36}" type="datetime">
              <a:rPr b="0" lang="zh-CN" sz="18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5472-221D-4079-AEB8-34438FF8069F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250920" y="117360"/>
            <a:ext cx="8785080" cy="6624720"/>
          </a:xfrm>
          <a:prstGeom prst="rect">
            <a:avLst/>
          </a:prstGeom>
          <a:solidFill>
            <a:srgbClr val="d6eee1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7"/>
          <p:cNvSpPr/>
          <p:nvPr/>
        </p:nvSpPr>
        <p:spPr>
          <a:xfrm>
            <a:off x="0" y="0"/>
            <a:ext cx="539640" cy="262080"/>
          </a:xfrm>
          <a:prstGeom prst="rect">
            <a:avLst/>
          </a:prstGeom>
          <a:solidFill>
            <a:srgbClr val="155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3720-725E-4DD7-9D20-81320BDFCDBE}" type="datetime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2B05-EBC3-4F86-B2CF-1DE9BAC69B1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3"/>
          <p:cNvSpPr/>
          <p:nvPr/>
        </p:nvSpPr>
        <p:spPr>
          <a:xfrm>
            <a:off x="250920" y="1989000"/>
            <a:ext cx="8642160" cy="144720"/>
          </a:xfrm>
          <a:prstGeom prst="rect">
            <a:avLst/>
          </a:prstGeom>
          <a:solidFill>
            <a:srgbClr val="155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4"/>
          <p:cNvSpPr/>
          <p:nvPr/>
        </p:nvSpPr>
        <p:spPr>
          <a:xfrm>
            <a:off x="250920" y="3933720"/>
            <a:ext cx="8642160" cy="157320"/>
          </a:xfrm>
          <a:prstGeom prst="rect">
            <a:avLst/>
          </a:prstGeom>
          <a:solidFill>
            <a:srgbClr val="155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接连接符 5"/>
          <p:cNvSpPr/>
          <p:nvPr/>
        </p:nvSpPr>
        <p:spPr>
          <a:xfrm>
            <a:off x="250920" y="2205000"/>
            <a:ext cx="8642160" cy="0"/>
          </a:xfrm>
          <a:prstGeom prst="line">
            <a:avLst/>
          </a:prstGeom>
          <a:ln w="9360">
            <a:solidFill>
              <a:srgbClr val="1553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接连接符 6"/>
          <p:cNvSpPr/>
          <p:nvPr/>
        </p:nvSpPr>
        <p:spPr>
          <a:xfrm>
            <a:off x="250920" y="3860640"/>
            <a:ext cx="8642160" cy="0"/>
          </a:xfrm>
          <a:prstGeom prst="line">
            <a:avLst/>
          </a:prstGeom>
          <a:ln w="9360">
            <a:solidFill>
              <a:srgbClr val="1553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1954800" y="2276640"/>
            <a:ext cx="556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微软雅黑"/>
                <a:ea typeface="微软雅黑"/>
              </a:rPr>
              <a:t>原子核外排布  原子结构示意图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微软雅黑"/>
                <a:ea typeface="微软雅黑"/>
              </a:rPr>
              <a:t>离子及离子结构示意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4103"/>
          <p:cNvSpPr txBox="1"/>
          <p:nvPr/>
        </p:nvSpPr>
        <p:spPr>
          <a:xfrm>
            <a:off x="250920" y="909720"/>
            <a:ext cx="36576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课题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2 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原子的结构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文本框 13313"/>
          <p:cNvSpPr/>
          <p:nvPr/>
        </p:nvSpPr>
        <p:spPr>
          <a:xfrm>
            <a:off x="1384200" y="1816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文本框 13314"/>
          <p:cNvSpPr/>
          <p:nvPr/>
        </p:nvSpPr>
        <p:spPr>
          <a:xfrm>
            <a:off x="228600" y="9907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概念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文本框 13315"/>
          <p:cNvSpPr/>
          <p:nvPr/>
        </p:nvSpPr>
        <p:spPr>
          <a:xfrm>
            <a:off x="1908000" y="1052640"/>
            <a:ext cx="670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带电的原子或原子团，如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华文中宋"/>
                <a:ea typeface="华文中宋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中宋"/>
                <a:ea typeface="华文中宋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13316"/>
          <p:cNvSpPr/>
          <p:nvPr/>
        </p:nvSpPr>
        <p:spPr>
          <a:xfrm>
            <a:off x="250920" y="19890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离子的形成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13317"/>
          <p:cNvSpPr/>
          <p:nvPr/>
        </p:nvSpPr>
        <p:spPr>
          <a:xfrm>
            <a:off x="4038480" y="28702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原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13318"/>
          <p:cNvSpPr/>
          <p:nvPr/>
        </p:nvSpPr>
        <p:spPr>
          <a:xfrm>
            <a:off x="6975720" y="2828880"/>
            <a:ext cx="14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阴离子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-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矩形 13319"/>
          <p:cNvSpPr/>
          <p:nvPr/>
        </p:nvSpPr>
        <p:spPr>
          <a:xfrm>
            <a:off x="626040" y="2854440"/>
            <a:ext cx="15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阳离子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+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组合 13320"/>
          <p:cNvGrpSpPr/>
          <p:nvPr/>
        </p:nvGrpSpPr>
        <p:grpSpPr>
          <a:xfrm>
            <a:off x="4952880" y="2676600"/>
            <a:ext cx="1676520" cy="533520"/>
            <a:chOff x="4952880" y="2676600"/>
            <a:chExt cx="1676520" cy="533520"/>
          </a:xfrm>
        </p:grpSpPr>
        <p:grpSp>
          <p:nvGrpSpPr>
            <p:cNvPr id="228" name=""/>
            <p:cNvGrpSpPr/>
            <p:nvPr/>
          </p:nvGrpSpPr>
          <p:grpSpPr>
            <a:xfrm>
              <a:off x="4952880" y="3209760"/>
              <a:ext cx="1676520" cy="360"/>
              <a:chOff x="4952880" y="3209760"/>
              <a:chExt cx="1676520" cy="360"/>
            </a:xfrm>
          </p:grpSpPr>
          <p:sp>
            <p:nvSpPr>
              <p:cNvPr id="229" name="直接连接符 13321"/>
              <p:cNvSpPr/>
              <p:nvPr/>
            </p:nvSpPr>
            <p:spPr>
              <a:xfrm>
                <a:off x="4952880" y="3209760"/>
                <a:ext cx="16765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"/>
              <p:cNvSpPr txBox="1"/>
              <p:nvPr/>
            </p:nvSpPr>
            <p:spPr>
              <a:xfrm>
                <a:off x="4952880" y="3209760"/>
                <a:ext cx="1676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1" name="文本框 13322"/>
            <p:cNvSpPr/>
            <p:nvPr/>
          </p:nvSpPr>
          <p:spPr>
            <a:xfrm>
              <a:off x="5105160" y="267660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得电子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2" name="组合 13323"/>
          <p:cNvGrpSpPr/>
          <p:nvPr/>
        </p:nvGrpSpPr>
        <p:grpSpPr>
          <a:xfrm>
            <a:off x="2471400" y="2752560"/>
            <a:ext cx="1524240" cy="457560"/>
            <a:chOff x="2471400" y="2752560"/>
            <a:chExt cx="1524240" cy="457560"/>
          </a:xfrm>
        </p:grpSpPr>
        <p:sp>
          <p:nvSpPr>
            <p:cNvPr id="233" name="文本框 13324"/>
            <p:cNvSpPr/>
            <p:nvPr/>
          </p:nvSpPr>
          <p:spPr>
            <a:xfrm>
              <a:off x="2700360" y="275256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失电子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2471400" y="3209760"/>
              <a:ext cx="1524240" cy="360"/>
              <a:chOff x="2471400" y="3209760"/>
              <a:chExt cx="1524240" cy="360"/>
            </a:xfrm>
          </p:grpSpPr>
          <p:sp>
            <p:nvSpPr>
              <p:cNvPr id="235" name="直接连接符 13325"/>
              <p:cNvSpPr/>
              <p:nvPr/>
            </p:nvSpPr>
            <p:spPr>
              <a:xfrm flipH="1">
                <a:off x="2471400" y="3209760"/>
                <a:ext cx="152388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"/>
              <p:cNvSpPr txBox="1"/>
              <p:nvPr/>
            </p:nvSpPr>
            <p:spPr>
              <a:xfrm>
                <a:off x="2471760" y="3209760"/>
                <a:ext cx="1523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37" name="文本框 13326"/>
          <p:cNvSpPr/>
          <p:nvPr/>
        </p:nvSpPr>
        <p:spPr>
          <a:xfrm>
            <a:off x="790560" y="3645000"/>
            <a:ext cx="25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.</a:t>
            </a: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离子的表示方法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文本框 13327"/>
          <p:cNvSpPr/>
          <p:nvPr/>
        </p:nvSpPr>
        <p:spPr>
          <a:xfrm>
            <a:off x="1631520" y="6033960"/>
            <a:ext cx="73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Na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文本框 13328"/>
          <p:cNvSpPr/>
          <p:nvPr/>
        </p:nvSpPr>
        <p:spPr>
          <a:xfrm>
            <a:off x="6191280" y="5977080"/>
            <a:ext cx="60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Cl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文本框 13329"/>
          <p:cNvSpPr/>
          <p:nvPr/>
        </p:nvSpPr>
        <p:spPr>
          <a:xfrm>
            <a:off x="3203640" y="4869000"/>
            <a:ext cx="25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离子结构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文本框 13330"/>
          <p:cNvSpPr/>
          <p:nvPr/>
        </p:nvSpPr>
        <p:spPr>
          <a:xfrm>
            <a:off x="3348000" y="5877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华文中宋"/>
              </a:rPr>
              <a:t>离子符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文本框 13331"/>
          <p:cNvSpPr/>
          <p:nvPr/>
        </p:nvSpPr>
        <p:spPr>
          <a:xfrm>
            <a:off x="324000" y="260280"/>
            <a:ext cx="201600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二、离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组合 13332"/>
          <p:cNvGrpSpPr/>
          <p:nvPr/>
        </p:nvGrpSpPr>
        <p:grpSpPr>
          <a:xfrm>
            <a:off x="5364000" y="4149720"/>
            <a:ext cx="2053440" cy="1751400"/>
            <a:chOff x="5364000" y="4149720"/>
            <a:chExt cx="2053440" cy="1751400"/>
          </a:xfrm>
        </p:grpSpPr>
        <p:sp>
          <p:nvSpPr>
            <p:cNvPr id="244" name="任意多边形 13333"/>
            <p:cNvSpPr/>
            <p:nvPr/>
          </p:nvSpPr>
          <p:spPr>
            <a:xfrm>
              <a:off x="5455800" y="4402800"/>
              <a:ext cx="1011240" cy="439560"/>
            </a:xfrm>
            <a:custGeom>
              <a:avLst/>
              <a:gdLst/>
              <a:ahLst/>
              <a:rect l="l" t="t" r="r" b="b"/>
              <a:pathLst>
                <a:path fill="none" w="21600" h="12859">
                  <a:moveTo>
                    <a:pt x="18120" y="0"/>
                  </a:moveTo>
                  <a:cubicBezTo>
                    <a:pt x="20322" y="3381"/>
                    <a:pt x="21600" y="7419"/>
                    <a:pt x="21600" y="11756"/>
                  </a:cubicBezTo>
                  <a:cubicBezTo>
                    <a:pt x="21600" y="12128"/>
                    <a:pt x="21591" y="12497"/>
                    <a:pt x="21572" y="12860"/>
                  </a:cubicBezTo>
                </a:path>
                <a:path stroke="0" w="21600" h="12859">
                  <a:moveTo>
                    <a:pt x="21571" y="12859"/>
                  </a:moveTo>
                  <a:cubicBezTo>
                    <a:pt x="21542" y="11646"/>
                    <a:pt x="21526" y="10378"/>
                    <a:pt x="21526" y="9076"/>
                  </a:cubicBezTo>
                  <a:cubicBezTo>
                    <a:pt x="21526" y="-135"/>
                    <a:pt x="22305" y="-7602"/>
                    <a:pt x="23266" y="-7602"/>
                  </a:cubicBezTo>
                  <a:cubicBezTo>
                    <a:pt x="24227" y="-7602"/>
                    <a:pt x="25006" y="-135"/>
                    <a:pt x="25006" y="9076"/>
                  </a:cubicBezTo>
                  <a:cubicBezTo>
                    <a:pt x="25006" y="9451"/>
                    <a:pt x="25005" y="9823"/>
                    <a:pt x="25002" y="10187"/>
                  </a:cubicBezTo>
                  <a:lnTo>
                    <a:pt x="1812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文本框 13334"/>
            <p:cNvSpPr/>
            <p:nvPr/>
          </p:nvSpPr>
          <p:spPr>
            <a:xfrm>
              <a:off x="6323400" y="4766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14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6" name="组合 13335"/>
            <p:cNvGrpSpPr/>
            <p:nvPr/>
          </p:nvGrpSpPr>
          <p:grpSpPr>
            <a:xfrm>
              <a:off x="5364000" y="4149720"/>
              <a:ext cx="2053440" cy="1751400"/>
              <a:chOff x="5364000" y="4149720"/>
              <a:chExt cx="2053440" cy="1751400"/>
            </a:xfrm>
          </p:grpSpPr>
          <p:sp>
            <p:nvSpPr>
              <p:cNvPr id="247" name="任意多边形 13336"/>
              <p:cNvSpPr/>
              <p:nvPr/>
            </p:nvSpPr>
            <p:spPr>
              <a:xfrm>
                <a:off x="5364000" y="5162760"/>
                <a:ext cx="1103040" cy="615240"/>
              </a:xfrm>
              <a:custGeom>
                <a:avLst/>
                <a:gdLst/>
                <a:ahLst/>
                <a:rect l="l" t="t" r="r" b="b"/>
                <a:pathLst>
                  <a:path fill="none" w="21489" h="13083">
                    <a:moveTo>
                      <a:pt x="21488" y="2189"/>
                    </a:moveTo>
                    <a:cubicBezTo>
                      <a:pt x="21078" y="6266"/>
                      <a:pt x="19537" y="10001"/>
                      <a:pt x="17187" y="13084"/>
                    </a:cubicBezTo>
                  </a:path>
                  <a:path stroke="0" w="21489" h="13083">
                    <a:moveTo>
                      <a:pt x="17186" y="13083"/>
                    </a:moveTo>
                    <a:cubicBezTo>
                      <a:pt x="17186" y="13088"/>
                      <a:pt x="17186" y="13093"/>
                      <a:pt x="17186" y="13098"/>
                    </a:cubicBezTo>
                    <a:cubicBezTo>
                      <a:pt x="17186" y="13113"/>
                      <a:pt x="17186" y="13127"/>
                      <a:pt x="17186" y="13141"/>
                    </a:cubicBezTo>
                    <a:lnTo>
                      <a:pt x="21488" y="2189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文本框 13337"/>
              <p:cNvSpPr/>
              <p:nvPr/>
            </p:nvSpPr>
            <p:spPr>
              <a:xfrm>
                <a:off x="7058520" y="47664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10014"/>
                    </a:solidFill>
                    <a:latin typeface="Times New Roman"/>
                    <a:ea typeface="宋体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" name="文本框 13338"/>
              <p:cNvSpPr/>
              <p:nvPr/>
            </p:nvSpPr>
            <p:spPr>
              <a:xfrm>
                <a:off x="6694560" y="47664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10014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50" name="组合 13339"/>
              <p:cNvGrpSpPr/>
              <p:nvPr/>
            </p:nvGrpSpPr>
            <p:grpSpPr>
              <a:xfrm>
                <a:off x="5639760" y="4149720"/>
                <a:ext cx="1562400" cy="1751400"/>
                <a:chOff x="5639760" y="4149720"/>
                <a:chExt cx="1562400" cy="1751400"/>
              </a:xfrm>
            </p:grpSpPr>
            <p:sp>
              <p:nvSpPr>
                <p:cNvPr id="251" name="任意多边形 13340"/>
                <p:cNvSpPr/>
                <p:nvPr/>
              </p:nvSpPr>
              <p:spPr>
                <a:xfrm>
                  <a:off x="5823360" y="4233960"/>
                  <a:ext cx="1011240" cy="578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16871">
                      <a:moveTo>
                        <a:pt x="16633" y="0"/>
                      </a:moveTo>
                      <a:cubicBezTo>
                        <a:pt x="19735" y="3739"/>
                        <a:pt x="21600" y="8542"/>
                        <a:pt x="21600" y="13780"/>
                      </a:cubicBezTo>
                      <a:cubicBezTo>
                        <a:pt x="21600" y="14833"/>
                        <a:pt x="21525" y="15868"/>
                        <a:pt x="21380" y="16874"/>
                      </a:cubicBezTo>
                    </a:path>
                    <a:path stroke="0" w="21600" h="16871">
                      <a:moveTo>
                        <a:pt x="21377" y="16871"/>
                      </a:moveTo>
                      <a:cubicBezTo>
                        <a:pt x="21375" y="16574"/>
                        <a:pt x="21374" y="16274"/>
                        <a:pt x="21374" y="15973"/>
                      </a:cubicBezTo>
                      <a:cubicBezTo>
                        <a:pt x="21374" y="6203"/>
                        <a:pt x="22486" y="-1717"/>
                        <a:pt x="23857" y="-1717"/>
                      </a:cubicBezTo>
                      <a:cubicBezTo>
                        <a:pt x="25228" y="-1717"/>
                        <a:pt x="26340" y="6203"/>
                        <a:pt x="26340" y="15973"/>
                      </a:cubicBezTo>
                      <a:cubicBezTo>
                        <a:pt x="26340" y="16497"/>
                        <a:pt x="26337" y="17016"/>
                        <a:pt x="26331" y="17524"/>
                      </a:cubicBezTo>
                      <a:lnTo>
                        <a:pt x="16633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" name="任意多边形 13341"/>
                <p:cNvSpPr/>
                <p:nvPr/>
              </p:nvSpPr>
              <p:spPr>
                <a:xfrm>
                  <a:off x="5731560" y="5162760"/>
                  <a:ext cx="1095120" cy="657360"/>
                </a:xfrm>
                <a:custGeom>
                  <a:avLst/>
                  <a:gdLst/>
                  <a:ahLst/>
                  <a:rect l="l" t="t" r="r" b="b"/>
                  <a:pathLst>
                    <a:path fill="none" w="21489" h="13977">
                      <a:moveTo>
                        <a:pt x="21488" y="2189"/>
                      </a:moveTo>
                      <a:cubicBezTo>
                        <a:pt x="21037" y="6667"/>
                        <a:pt x="19223" y="10734"/>
                        <a:pt x="16467" y="13977"/>
                      </a:cubicBezTo>
                    </a:path>
                    <a:path stroke="0" w="21489" h="13977">
                      <a:moveTo>
                        <a:pt x="16468" y="13977"/>
                      </a:moveTo>
                      <a:cubicBezTo>
                        <a:pt x="16468" y="13985"/>
                        <a:pt x="16468" y="13992"/>
                        <a:pt x="16468" y="14000"/>
                      </a:cubicBezTo>
                      <a:cubicBezTo>
                        <a:pt x="16468" y="14015"/>
                        <a:pt x="16468" y="14029"/>
                        <a:pt x="16468" y="14043"/>
                      </a:cubicBezTo>
                      <a:lnTo>
                        <a:pt x="21488" y="218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" name="任意多边形 13342"/>
                <p:cNvSpPr/>
                <p:nvPr/>
              </p:nvSpPr>
              <p:spPr>
                <a:xfrm>
                  <a:off x="6191280" y="4149720"/>
                  <a:ext cx="101088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18915">
                      <a:moveTo>
                        <a:pt x="14702" y="0"/>
                      </a:moveTo>
                      <a:cubicBezTo>
                        <a:pt x="18945" y="3944"/>
                        <a:pt x="21600" y="9574"/>
                        <a:pt x="21600" y="15824"/>
                      </a:cubicBezTo>
                      <a:cubicBezTo>
                        <a:pt x="21600" y="16877"/>
                        <a:pt x="21525" y="17912"/>
                        <a:pt x="21380" y="18918"/>
                      </a:cubicBezTo>
                    </a:path>
                    <a:path stroke="0" w="21600" h="18915">
                      <a:moveTo>
                        <a:pt x="21377" y="18915"/>
                      </a:moveTo>
                      <a:cubicBezTo>
                        <a:pt x="21399" y="8680"/>
                        <a:pt x="22935" y="420"/>
                        <a:pt x="24826" y="420"/>
                      </a:cubicBezTo>
                      <a:cubicBezTo>
                        <a:pt x="26731" y="420"/>
                        <a:pt x="28275" y="8798"/>
                        <a:pt x="28275" y="19132"/>
                      </a:cubicBezTo>
                      <a:cubicBezTo>
                        <a:pt x="28275" y="19848"/>
                        <a:pt x="28268" y="20555"/>
                        <a:pt x="28253" y="21245"/>
                      </a:cubicBezTo>
                      <a:lnTo>
                        <a:pt x="14702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" name="任意多边形 13343"/>
                <p:cNvSpPr/>
                <p:nvPr/>
              </p:nvSpPr>
              <p:spPr>
                <a:xfrm>
                  <a:off x="6099120" y="5162760"/>
                  <a:ext cx="1095480" cy="738360"/>
                </a:xfrm>
                <a:custGeom>
                  <a:avLst/>
                  <a:gdLst/>
                  <a:ahLst/>
                  <a:rect l="l" t="t" r="r" b="b"/>
                  <a:pathLst>
                    <a:path fill="none" w="21489" h="15679">
                      <a:moveTo>
                        <a:pt x="21488" y="2189"/>
                      </a:moveTo>
                      <a:cubicBezTo>
                        <a:pt x="20954" y="7488"/>
                        <a:pt x="18510" y="12216"/>
                        <a:pt x="14856" y="15679"/>
                      </a:cubicBezTo>
                    </a:path>
                    <a:path stroke="0" w="21489" h="15679">
                      <a:moveTo>
                        <a:pt x="14856" y="15678"/>
                      </a:moveTo>
                      <a:cubicBezTo>
                        <a:pt x="14856" y="15689"/>
                        <a:pt x="14856" y="15699"/>
                        <a:pt x="14856" y="15710"/>
                      </a:cubicBezTo>
                      <a:cubicBezTo>
                        <a:pt x="14856" y="15725"/>
                        <a:pt x="14856" y="15739"/>
                        <a:pt x="14856" y="15753"/>
                      </a:cubicBezTo>
                      <a:lnTo>
                        <a:pt x="21488" y="218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5" name="椭圆 13344"/>
                <p:cNvSpPr/>
                <p:nvPr/>
              </p:nvSpPr>
              <p:spPr>
                <a:xfrm>
                  <a:off x="5639760" y="4740480"/>
                  <a:ext cx="64332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10014"/>
                      </a:solidFill>
                      <a:latin typeface="Times New Roman"/>
                    </a:rPr>
                    <a:t>+1</a:t>
                  </a:r>
                  <a:r>
                    <a:rPr b="1" lang="zh-CN" sz="2800" spc="-1" strike="noStrike">
                      <a:solidFill>
                        <a:srgbClr val="010014"/>
                      </a:solidFill>
                      <a:latin typeface="Times New Roman"/>
                      <a:ea typeface="宋体"/>
                    </a:rPr>
                    <a:t>7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256" name="组合 13345"/>
          <p:cNvGrpSpPr/>
          <p:nvPr/>
        </p:nvGrpSpPr>
        <p:grpSpPr>
          <a:xfrm>
            <a:off x="777960" y="4210200"/>
            <a:ext cx="2053080" cy="1751400"/>
            <a:chOff x="777960" y="4210200"/>
            <a:chExt cx="2053080" cy="1751400"/>
          </a:xfrm>
        </p:grpSpPr>
        <p:sp>
          <p:nvSpPr>
            <p:cNvPr id="257" name="任意多边形 13346"/>
            <p:cNvSpPr/>
            <p:nvPr/>
          </p:nvSpPr>
          <p:spPr>
            <a:xfrm>
              <a:off x="869760" y="4463280"/>
              <a:ext cx="1011240" cy="439560"/>
            </a:xfrm>
            <a:custGeom>
              <a:avLst/>
              <a:gdLst/>
              <a:ahLst/>
              <a:rect l="l" t="t" r="r" b="b"/>
              <a:pathLst>
                <a:path fill="none" w="21600" h="12859">
                  <a:moveTo>
                    <a:pt x="18120" y="0"/>
                  </a:moveTo>
                  <a:cubicBezTo>
                    <a:pt x="20322" y="3381"/>
                    <a:pt x="21600" y="7419"/>
                    <a:pt x="21600" y="11756"/>
                  </a:cubicBezTo>
                  <a:cubicBezTo>
                    <a:pt x="21600" y="12128"/>
                    <a:pt x="21591" y="12497"/>
                    <a:pt x="21572" y="12860"/>
                  </a:cubicBezTo>
                </a:path>
                <a:path stroke="0" w="21600" h="12859">
                  <a:moveTo>
                    <a:pt x="21571" y="12859"/>
                  </a:moveTo>
                  <a:cubicBezTo>
                    <a:pt x="21542" y="11646"/>
                    <a:pt x="21526" y="10378"/>
                    <a:pt x="21526" y="9076"/>
                  </a:cubicBezTo>
                  <a:cubicBezTo>
                    <a:pt x="21526" y="-135"/>
                    <a:pt x="22305" y="-7602"/>
                    <a:pt x="23266" y="-7602"/>
                  </a:cubicBezTo>
                  <a:cubicBezTo>
                    <a:pt x="24227" y="-7602"/>
                    <a:pt x="25006" y="-135"/>
                    <a:pt x="25006" y="9076"/>
                  </a:cubicBezTo>
                  <a:cubicBezTo>
                    <a:pt x="25006" y="9451"/>
                    <a:pt x="25005" y="9823"/>
                    <a:pt x="25002" y="10187"/>
                  </a:cubicBezTo>
                  <a:lnTo>
                    <a:pt x="1812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文本框 13347"/>
            <p:cNvSpPr/>
            <p:nvPr/>
          </p:nvSpPr>
          <p:spPr>
            <a:xfrm>
              <a:off x="1737000" y="4826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14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9" name="组合 13348"/>
            <p:cNvGrpSpPr/>
            <p:nvPr/>
          </p:nvGrpSpPr>
          <p:grpSpPr>
            <a:xfrm>
              <a:off x="777960" y="4210200"/>
              <a:ext cx="2053080" cy="1751400"/>
              <a:chOff x="777960" y="4210200"/>
              <a:chExt cx="2053080" cy="1751400"/>
            </a:xfrm>
          </p:grpSpPr>
          <p:sp>
            <p:nvSpPr>
              <p:cNvPr id="260" name="任意多边形 13349"/>
              <p:cNvSpPr/>
              <p:nvPr/>
            </p:nvSpPr>
            <p:spPr>
              <a:xfrm>
                <a:off x="777960" y="5223240"/>
                <a:ext cx="1103040" cy="615240"/>
              </a:xfrm>
              <a:custGeom>
                <a:avLst/>
                <a:gdLst/>
                <a:ahLst/>
                <a:rect l="l" t="t" r="r" b="b"/>
                <a:pathLst>
                  <a:path fill="none" w="21489" h="13083">
                    <a:moveTo>
                      <a:pt x="21488" y="2189"/>
                    </a:moveTo>
                    <a:cubicBezTo>
                      <a:pt x="21078" y="6266"/>
                      <a:pt x="19537" y="10001"/>
                      <a:pt x="17187" y="13084"/>
                    </a:cubicBezTo>
                  </a:path>
                  <a:path stroke="0" w="21489" h="13083">
                    <a:moveTo>
                      <a:pt x="17186" y="13083"/>
                    </a:moveTo>
                    <a:cubicBezTo>
                      <a:pt x="17186" y="13088"/>
                      <a:pt x="17186" y="13093"/>
                      <a:pt x="17186" y="13098"/>
                    </a:cubicBezTo>
                    <a:cubicBezTo>
                      <a:pt x="17186" y="13113"/>
                      <a:pt x="17186" y="13127"/>
                      <a:pt x="17186" y="13141"/>
                    </a:cubicBezTo>
                    <a:lnTo>
                      <a:pt x="21488" y="2189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文本框 13350"/>
              <p:cNvSpPr/>
              <p:nvPr/>
            </p:nvSpPr>
            <p:spPr>
              <a:xfrm>
                <a:off x="2472120" y="48268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10014"/>
                    </a:solidFill>
                    <a:latin typeface="Times New Roman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文本框 13351"/>
              <p:cNvSpPr/>
              <p:nvPr/>
            </p:nvSpPr>
            <p:spPr>
              <a:xfrm>
                <a:off x="2108160" y="48268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10014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3" name="组合 13352"/>
              <p:cNvGrpSpPr/>
              <p:nvPr/>
            </p:nvGrpSpPr>
            <p:grpSpPr>
              <a:xfrm>
                <a:off x="1053720" y="4210200"/>
                <a:ext cx="1561680" cy="1751400"/>
                <a:chOff x="1053720" y="4210200"/>
                <a:chExt cx="1561680" cy="1751400"/>
              </a:xfrm>
            </p:grpSpPr>
            <p:sp>
              <p:nvSpPr>
                <p:cNvPr id="264" name="任意多边形 13353"/>
                <p:cNvSpPr/>
                <p:nvPr/>
              </p:nvSpPr>
              <p:spPr>
                <a:xfrm>
                  <a:off x="1237320" y="4294440"/>
                  <a:ext cx="1011240" cy="578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16871">
                      <a:moveTo>
                        <a:pt x="16633" y="0"/>
                      </a:moveTo>
                      <a:cubicBezTo>
                        <a:pt x="19735" y="3739"/>
                        <a:pt x="21600" y="8542"/>
                        <a:pt x="21600" y="13780"/>
                      </a:cubicBezTo>
                      <a:cubicBezTo>
                        <a:pt x="21600" y="14833"/>
                        <a:pt x="21525" y="15868"/>
                        <a:pt x="21380" y="16874"/>
                      </a:cubicBezTo>
                    </a:path>
                    <a:path stroke="0" w="21600" h="16871">
                      <a:moveTo>
                        <a:pt x="21377" y="16871"/>
                      </a:moveTo>
                      <a:cubicBezTo>
                        <a:pt x="21375" y="16574"/>
                        <a:pt x="21374" y="16274"/>
                        <a:pt x="21374" y="15973"/>
                      </a:cubicBezTo>
                      <a:cubicBezTo>
                        <a:pt x="21374" y="6203"/>
                        <a:pt x="22486" y="-1717"/>
                        <a:pt x="23857" y="-1717"/>
                      </a:cubicBezTo>
                      <a:cubicBezTo>
                        <a:pt x="25228" y="-1717"/>
                        <a:pt x="26340" y="6203"/>
                        <a:pt x="26340" y="15973"/>
                      </a:cubicBezTo>
                      <a:cubicBezTo>
                        <a:pt x="26340" y="16497"/>
                        <a:pt x="26337" y="17016"/>
                        <a:pt x="26331" y="17524"/>
                      </a:cubicBezTo>
                      <a:lnTo>
                        <a:pt x="16633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5" name="任意多边形 13354"/>
                <p:cNvSpPr/>
                <p:nvPr/>
              </p:nvSpPr>
              <p:spPr>
                <a:xfrm>
                  <a:off x="1145520" y="5223240"/>
                  <a:ext cx="1094760" cy="657360"/>
                </a:xfrm>
                <a:custGeom>
                  <a:avLst/>
                  <a:gdLst/>
                  <a:ahLst/>
                  <a:rect l="l" t="t" r="r" b="b"/>
                  <a:pathLst>
                    <a:path fill="none" w="21489" h="13977">
                      <a:moveTo>
                        <a:pt x="21488" y="2189"/>
                      </a:moveTo>
                      <a:cubicBezTo>
                        <a:pt x="21037" y="6667"/>
                        <a:pt x="19223" y="10734"/>
                        <a:pt x="16467" y="13977"/>
                      </a:cubicBezTo>
                    </a:path>
                    <a:path stroke="0" w="21489" h="13977">
                      <a:moveTo>
                        <a:pt x="16468" y="13977"/>
                      </a:moveTo>
                      <a:cubicBezTo>
                        <a:pt x="16468" y="13985"/>
                        <a:pt x="16468" y="13992"/>
                        <a:pt x="16468" y="14000"/>
                      </a:cubicBezTo>
                      <a:cubicBezTo>
                        <a:pt x="16468" y="14015"/>
                        <a:pt x="16468" y="14029"/>
                        <a:pt x="16468" y="14043"/>
                      </a:cubicBezTo>
                      <a:lnTo>
                        <a:pt x="21488" y="218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6" name="任意多边形 13355"/>
                <p:cNvSpPr/>
                <p:nvPr/>
              </p:nvSpPr>
              <p:spPr>
                <a:xfrm>
                  <a:off x="1604880" y="4210200"/>
                  <a:ext cx="10105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18915">
                      <a:moveTo>
                        <a:pt x="14702" y="0"/>
                      </a:moveTo>
                      <a:cubicBezTo>
                        <a:pt x="18945" y="3944"/>
                        <a:pt x="21600" y="9574"/>
                        <a:pt x="21600" y="15824"/>
                      </a:cubicBezTo>
                      <a:cubicBezTo>
                        <a:pt x="21600" y="16877"/>
                        <a:pt x="21525" y="17912"/>
                        <a:pt x="21380" y="18918"/>
                      </a:cubicBezTo>
                    </a:path>
                    <a:path stroke="0" w="21600" h="18915">
                      <a:moveTo>
                        <a:pt x="21377" y="18915"/>
                      </a:moveTo>
                      <a:cubicBezTo>
                        <a:pt x="21399" y="8680"/>
                        <a:pt x="22935" y="420"/>
                        <a:pt x="24826" y="420"/>
                      </a:cubicBezTo>
                      <a:cubicBezTo>
                        <a:pt x="26731" y="420"/>
                        <a:pt x="28275" y="8798"/>
                        <a:pt x="28275" y="19132"/>
                      </a:cubicBezTo>
                      <a:cubicBezTo>
                        <a:pt x="28275" y="19848"/>
                        <a:pt x="28268" y="20555"/>
                        <a:pt x="28253" y="21245"/>
                      </a:cubicBezTo>
                      <a:lnTo>
                        <a:pt x="14702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" name="任意多边形 13356"/>
                <p:cNvSpPr/>
                <p:nvPr/>
              </p:nvSpPr>
              <p:spPr>
                <a:xfrm>
                  <a:off x="1513080" y="5223240"/>
                  <a:ext cx="1095480" cy="738360"/>
                </a:xfrm>
                <a:custGeom>
                  <a:avLst/>
                  <a:gdLst/>
                  <a:ahLst/>
                  <a:rect l="l" t="t" r="r" b="b"/>
                  <a:pathLst>
                    <a:path fill="none" w="21489" h="15679">
                      <a:moveTo>
                        <a:pt x="21488" y="2189"/>
                      </a:moveTo>
                      <a:cubicBezTo>
                        <a:pt x="20954" y="7488"/>
                        <a:pt x="18510" y="12216"/>
                        <a:pt x="14856" y="15679"/>
                      </a:cubicBezTo>
                    </a:path>
                    <a:path stroke="0" w="21489" h="15679">
                      <a:moveTo>
                        <a:pt x="14856" y="15678"/>
                      </a:moveTo>
                      <a:cubicBezTo>
                        <a:pt x="14856" y="15689"/>
                        <a:pt x="14856" y="15699"/>
                        <a:pt x="14856" y="15710"/>
                      </a:cubicBezTo>
                      <a:cubicBezTo>
                        <a:pt x="14856" y="15725"/>
                        <a:pt x="14856" y="15739"/>
                        <a:pt x="14856" y="15753"/>
                      </a:cubicBezTo>
                      <a:lnTo>
                        <a:pt x="21488" y="218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8" name="椭圆 13357"/>
                <p:cNvSpPr/>
                <p:nvPr/>
              </p:nvSpPr>
              <p:spPr>
                <a:xfrm>
                  <a:off x="1053720" y="4800960"/>
                  <a:ext cx="64332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10014"/>
                      </a:solidFill>
                      <a:latin typeface="Times New Roman"/>
                    </a:rPr>
                    <a:t>+1</a:t>
                  </a:r>
                  <a:r>
                    <a:rPr b="1" lang="zh-CN" sz="2800" spc="-1" strike="noStrike">
                      <a:solidFill>
                        <a:srgbClr val="010014"/>
                      </a:solidFill>
                      <a:latin typeface="Times New Roman"/>
                      <a:ea typeface="宋体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文本框 14337"/>
          <p:cNvSpPr/>
          <p:nvPr/>
        </p:nvSpPr>
        <p:spPr>
          <a:xfrm>
            <a:off x="1671480" y="35449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文本框 14338"/>
          <p:cNvSpPr/>
          <p:nvPr/>
        </p:nvSpPr>
        <p:spPr>
          <a:xfrm>
            <a:off x="539640" y="117360"/>
            <a:ext cx="8785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原子中：  核电荷数      质子数      核外电子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阳离子：  核电荷数      质子数      核外电子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阴离子：  核电荷数      质子数      核外电子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14339"/>
          <p:cNvSpPr/>
          <p:nvPr/>
        </p:nvSpPr>
        <p:spPr>
          <a:xfrm>
            <a:off x="3560760" y="-1681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文本框 14340"/>
          <p:cNvSpPr/>
          <p:nvPr/>
        </p:nvSpPr>
        <p:spPr>
          <a:xfrm>
            <a:off x="3560760" y="9810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文本框 14341"/>
          <p:cNvSpPr/>
          <p:nvPr/>
        </p:nvSpPr>
        <p:spPr>
          <a:xfrm>
            <a:off x="3560760" y="4046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文本框 14342"/>
          <p:cNvSpPr/>
          <p:nvPr/>
        </p:nvSpPr>
        <p:spPr>
          <a:xfrm>
            <a:off x="5361120" y="-954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文本框 14343"/>
          <p:cNvSpPr/>
          <p:nvPr/>
        </p:nvSpPr>
        <p:spPr>
          <a:xfrm>
            <a:off x="5292720" y="40464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＞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文本框 14344"/>
          <p:cNvSpPr/>
          <p:nvPr/>
        </p:nvSpPr>
        <p:spPr>
          <a:xfrm>
            <a:off x="5343120" y="981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＜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文本框 14345"/>
          <p:cNvSpPr/>
          <p:nvPr/>
        </p:nvSpPr>
        <p:spPr>
          <a:xfrm>
            <a:off x="1311120" y="3616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文本框 14346"/>
          <p:cNvSpPr/>
          <p:nvPr/>
        </p:nvSpPr>
        <p:spPr>
          <a:xfrm>
            <a:off x="7415280" y="6056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文本框 14347"/>
          <p:cNvSpPr/>
          <p:nvPr/>
        </p:nvSpPr>
        <p:spPr>
          <a:xfrm>
            <a:off x="1570680" y="37180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文本框 14348"/>
          <p:cNvSpPr/>
          <p:nvPr/>
        </p:nvSpPr>
        <p:spPr>
          <a:xfrm>
            <a:off x="3974760" y="3789360"/>
            <a:ext cx="7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文本框 14349"/>
          <p:cNvSpPr/>
          <p:nvPr/>
        </p:nvSpPr>
        <p:spPr>
          <a:xfrm>
            <a:off x="6909480" y="3718080"/>
            <a:ext cx="6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Cl</a:t>
            </a:r>
            <a:r>
              <a:rPr b="1" lang="en-US" sz="3200" spc="-1" strike="noStrike" baseline="30000">
                <a:solidFill>
                  <a:srgbClr val="ff0000"/>
                </a:solidFill>
                <a:latin typeface="华文中宋"/>
                <a:ea typeface="华文中宋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文本框 14350"/>
          <p:cNvSpPr/>
          <p:nvPr/>
        </p:nvSpPr>
        <p:spPr>
          <a:xfrm>
            <a:off x="1359000" y="623736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O</a:t>
            </a:r>
            <a:r>
              <a:rPr b="1" lang="en-US" sz="3200" spc="-1" strike="noStrike" baseline="30000">
                <a:solidFill>
                  <a:srgbClr val="ff0000"/>
                </a:solidFill>
                <a:latin typeface="华文中宋"/>
                <a:ea typeface="华文中宋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文本框 14351"/>
          <p:cNvSpPr/>
          <p:nvPr/>
        </p:nvSpPr>
        <p:spPr>
          <a:xfrm>
            <a:off x="4036320" y="6165720"/>
            <a:ext cx="7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文本框 14352"/>
          <p:cNvSpPr/>
          <p:nvPr/>
        </p:nvSpPr>
        <p:spPr>
          <a:xfrm>
            <a:off x="6865920" y="6237360"/>
            <a:ext cx="89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Na</a:t>
            </a:r>
            <a:r>
              <a:rPr b="1" lang="en-US" sz="3200" spc="-1" strike="noStrike" baseline="30000">
                <a:solidFill>
                  <a:srgbClr val="ff0000"/>
                </a:solidFill>
                <a:latin typeface="华文中宋"/>
                <a:ea typeface="华文中宋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文本框 14353"/>
          <p:cNvSpPr/>
          <p:nvPr/>
        </p:nvSpPr>
        <p:spPr>
          <a:xfrm>
            <a:off x="4119480" y="34480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6" name="组合 14354"/>
          <p:cNvGrpSpPr/>
          <p:nvPr/>
        </p:nvGrpSpPr>
        <p:grpSpPr>
          <a:xfrm>
            <a:off x="755640" y="2205000"/>
            <a:ext cx="2053440" cy="1583280"/>
            <a:chOff x="755640" y="2205000"/>
            <a:chExt cx="2053440" cy="1583280"/>
          </a:xfrm>
        </p:grpSpPr>
        <p:sp>
          <p:nvSpPr>
            <p:cNvPr id="287" name="任意多边形 14355"/>
            <p:cNvSpPr/>
            <p:nvPr/>
          </p:nvSpPr>
          <p:spPr>
            <a:xfrm>
              <a:off x="847440" y="2433960"/>
              <a:ext cx="1011240" cy="397440"/>
            </a:xfrm>
            <a:custGeom>
              <a:avLst/>
              <a:gdLst/>
              <a:ahLst/>
              <a:rect l="l" t="t" r="r" b="b"/>
              <a:pathLst>
                <a:path fill="none" w="21600" h="12859">
                  <a:moveTo>
                    <a:pt x="18120" y="0"/>
                  </a:moveTo>
                  <a:cubicBezTo>
                    <a:pt x="20322" y="3381"/>
                    <a:pt x="21600" y="7419"/>
                    <a:pt x="21600" y="11756"/>
                  </a:cubicBezTo>
                  <a:cubicBezTo>
                    <a:pt x="21600" y="12128"/>
                    <a:pt x="21591" y="12497"/>
                    <a:pt x="21572" y="12860"/>
                  </a:cubicBezTo>
                </a:path>
                <a:path stroke="0" w="21600" h="12859">
                  <a:moveTo>
                    <a:pt x="21571" y="12859"/>
                  </a:moveTo>
                  <a:cubicBezTo>
                    <a:pt x="21542" y="11646"/>
                    <a:pt x="21526" y="10378"/>
                    <a:pt x="21526" y="9076"/>
                  </a:cubicBezTo>
                  <a:cubicBezTo>
                    <a:pt x="21526" y="-135"/>
                    <a:pt x="22305" y="-7602"/>
                    <a:pt x="23266" y="-7602"/>
                  </a:cubicBezTo>
                  <a:cubicBezTo>
                    <a:pt x="24227" y="-7602"/>
                    <a:pt x="25006" y="-135"/>
                    <a:pt x="25006" y="9076"/>
                  </a:cubicBezTo>
                  <a:cubicBezTo>
                    <a:pt x="25006" y="9451"/>
                    <a:pt x="25005" y="9823"/>
                    <a:pt x="25002" y="10187"/>
                  </a:cubicBezTo>
                  <a:lnTo>
                    <a:pt x="1812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文本框 14356"/>
            <p:cNvSpPr/>
            <p:nvPr/>
          </p:nvSpPr>
          <p:spPr>
            <a:xfrm>
              <a:off x="1715040" y="2737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14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9" name="组合 14357"/>
            <p:cNvGrpSpPr/>
            <p:nvPr/>
          </p:nvGrpSpPr>
          <p:grpSpPr>
            <a:xfrm>
              <a:off x="755640" y="2205000"/>
              <a:ext cx="2053440" cy="1583280"/>
              <a:chOff x="755640" y="2205000"/>
              <a:chExt cx="2053440" cy="1583280"/>
            </a:xfrm>
          </p:grpSpPr>
          <p:sp>
            <p:nvSpPr>
              <p:cNvPr id="290" name="任意多边形 14358"/>
              <p:cNvSpPr/>
              <p:nvPr/>
            </p:nvSpPr>
            <p:spPr>
              <a:xfrm>
                <a:off x="755640" y="3120840"/>
                <a:ext cx="1103040" cy="556200"/>
              </a:xfrm>
              <a:custGeom>
                <a:avLst/>
                <a:gdLst/>
                <a:ahLst/>
                <a:rect l="l" t="t" r="r" b="b"/>
                <a:pathLst>
                  <a:path fill="none" w="21489" h="13083">
                    <a:moveTo>
                      <a:pt x="21488" y="2189"/>
                    </a:moveTo>
                    <a:cubicBezTo>
                      <a:pt x="21078" y="6266"/>
                      <a:pt x="19537" y="10001"/>
                      <a:pt x="17187" y="13084"/>
                    </a:cubicBezTo>
                  </a:path>
                  <a:path stroke="0" w="21489" h="13083">
                    <a:moveTo>
                      <a:pt x="17186" y="13083"/>
                    </a:moveTo>
                    <a:cubicBezTo>
                      <a:pt x="17186" y="13088"/>
                      <a:pt x="17186" y="13093"/>
                      <a:pt x="17186" y="13098"/>
                    </a:cubicBezTo>
                    <a:cubicBezTo>
                      <a:pt x="17186" y="13113"/>
                      <a:pt x="17186" y="13127"/>
                      <a:pt x="17186" y="13141"/>
                    </a:cubicBezTo>
                    <a:lnTo>
                      <a:pt x="21488" y="2189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文本框 14359"/>
              <p:cNvSpPr/>
              <p:nvPr/>
            </p:nvSpPr>
            <p:spPr>
              <a:xfrm>
                <a:off x="2450160" y="27374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10014"/>
                    </a:solidFill>
                    <a:latin typeface="Times New Roman"/>
                    <a:ea typeface="宋体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文本框 14360"/>
              <p:cNvSpPr/>
              <p:nvPr/>
            </p:nvSpPr>
            <p:spPr>
              <a:xfrm>
                <a:off x="2086200" y="27374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10014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93" name="组合 14361"/>
              <p:cNvGrpSpPr/>
              <p:nvPr/>
            </p:nvGrpSpPr>
            <p:grpSpPr>
              <a:xfrm>
                <a:off x="1031400" y="2205000"/>
                <a:ext cx="1562400" cy="1583280"/>
                <a:chOff x="1031400" y="2205000"/>
                <a:chExt cx="1562400" cy="1583280"/>
              </a:xfrm>
            </p:grpSpPr>
            <p:sp>
              <p:nvSpPr>
                <p:cNvPr id="294" name="任意多边形 14362"/>
                <p:cNvSpPr/>
                <p:nvPr/>
              </p:nvSpPr>
              <p:spPr>
                <a:xfrm>
                  <a:off x="1215000" y="2281320"/>
                  <a:ext cx="1011240" cy="5227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16871">
                      <a:moveTo>
                        <a:pt x="16633" y="0"/>
                      </a:moveTo>
                      <a:cubicBezTo>
                        <a:pt x="19735" y="3739"/>
                        <a:pt x="21600" y="8542"/>
                        <a:pt x="21600" y="13780"/>
                      </a:cubicBezTo>
                      <a:cubicBezTo>
                        <a:pt x="21600" y="14833"/>
                        <a:pt x="21525" y="15868"/>
                        <a:pt x="21380" y="16874"/>
                      </a:cubicBezTo>
                    </a:path>
                    <a:path stroke="0" w="21600" h="16871">
                      <a:moveTo>
                        <a:pt x="21377" y="16871"/>
                      </a:moveTo>
                      <a:cubicBezTo>
                        <a:pt x="21375" y="16574"/>
                        <a:pt x="21374" y="16274"/>
                        <a:pt x="21374" y="15973"/>
                      </a:cubicBezTo>
                      <a:cubicBezTo>
                        <a:pt x="21374" y="6203"/>
                        <a:pt x="22486" y="-1717"/>
                        <a:pt x="23857" y="-1717"/>
                      </a:cubicBezTo>
                      <a:cubicBezTo>
                        <a:pt x="25228" y="-1717"/>
                        <a:pt x="26340" y="6203"/>
                        <a:pt x="26340" y="15973"/>
                      </a:cubicBezTo>
                      <a:cubicBezTo>
                        <a:pt x="26340" y="16497"/>
                        <a:pt x="26337" y="17016"/>
                        <a:pt x="26331" y="17524"/>
                      </a:cubicBezTo>
                      <a:lnTo>
                        <a:pt x="16633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5" name="任意多边形 14363"/>
                <p:cNvSpPr/>
                <p:nvPr/>
              </p:nvSpPr>
              <p:spPr>
                <a:xfrm>
                  <a:off x="1123200" y="3120840"/>
                  <a:ext cx="1095120" cy="594360"/>
                </a:xfrm>
                <a:custGeom>
                  <a:avLst/>
                  <a:gdLst/>
                  <a:ahLst/>
                  <a:rect l="l" t="t" r="r" b="b"/>
                  <a:pathLst>
                    <a:path fill="none" w="21489" h="13977">
                      <a:moveTo>
                        <a:pt x="21488" y="2189"/>
                      </a:moveTo>
                      <a:cubicBezTo>
                        <a:pt x="21037" y="6667"/>
                        <a:pt x="19223" y="10734"/>
                        <a:pt x="16467" y="13977"/>
                      </a:cubicBezTo>
                    </a:path>
                    <a:path stroke="0" w="21489" h="13977">
                      <a:moveTo>
                        <a:pt x="16468" y="13977"/>
                      </a:moveTo>
                      <a:cubicBezTo>
                        <a:pt x="16468" y="13985"/>
                        <a:pt x="16468" y="13992"/>
                        <a:pt x="16468" y="14000"/>
                      </a:cubicBezTo>
                      <a:cubicBezTo>
                        <a:pt x="16468" y="14015"/>
                        <a:pt x="16468" y="14029"/>
                        <a:pt x="16468" y="14043"/>
                      </a:cubicBezTo>
                      <a:lnTo>
                        <a:pt x="21488" y="218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6" name="任意多边形 14364"/>
                <p:cNvSpPr/>
                <p:nvPr/>
              </p:nvSpPr>
              <p:spPr>
                <a:xfrm>
                  <a:off x="1582920" y="2205000"/>
                  <a:ext cx="1010880" cy="5850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18915">
                      <a:moveTo>
                        <a:pt x="14702" y="0"/>
                      </a:moveTo>
                      <a:cubicBezTo>
                        <a:pt x="18945" y="3944"/>
                        <a:pt x="21600" y="9574"/>
                        <a:pt x="21600" y="15824"/>
                      </a:cubicBezTo>
                      <a:cubicBezTo>
                        <a:pt x="21600" y="16877"/>
                        <a:pt x="21525" y="17912"/>
                        <a:pt x="21380" y="18918"/>
                      </a:cubicBezTo>
                    </a:path>
                    <a:path stroke="0" w="21600" h="18915">
                      <a:moveTo>
                        <a:pt x="21377" y="18915"/>
                      </a:moveTo>
                      <a:cubicBezTo>
                        <a:pt x="21399" y="8680"/>
                        <a:pt x="22935" y="420"/>
                        <a:pt x="24826" y="420"/>
                      </a:cubicBezTo>
                      <a:cubicBezTo>
                        <a:pt x="26731" y="420"/>
                        <a:pt x="28275" y="8798"/>
                        <a:pt x="28275" y="19132"/>
                      </a:cubicBezTo>
                      <a:cubicBezTo>
                        <a:pt x="28275" y="19848"/>
                        <a:pt x="28268" y="20555"/>
                        <a:pt x="28253" y="21245"/>
                      </a:cubicBezTo>
                      <a:lnTo>
                        <a:pt x="14702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7" name="任意多边形 14365"/>
                <p:cNvSpPr/>
                <p:nvPr/>
              </p:nvSpPr>
              <p:spPr>
                <a:xfrm>
                  <a:off x="1490760" y="3120840"/>
                  <a:ext cx="1095480" cy="667440"/>
                </a:xfrm>
                <a:custGeom>
                  <a:avLst/>
                  <a:gdLst/>
                  <a:ahLst/>
                  <a:rect l="l" t="t" r="r" b="b"/>
                  <a:pathLst>
                    <a:path fill="none" w="21489" h="15679">
                      <a:moveTo>
                        <a:pt x="21488" y="2189"/>
                      </a:moveTo>
                      <a:cubicBezTo>
                        <a:pt x="20954" y="7488"/>
                        <a:pt x="18510" y="12216"/>
                        <a:pt x="14856" y="15679"/>
                      </a:cubicBezTo>
                    </a:path>
                    <a:path stroke="0" w="21489" h="15679">
                      <a:moveTo>
                        <a:pt x="14856" y="15678"/>
                      </a:moveTo>
                      <a:cubicBezTo>
                        <a:pt x="14856" y="15689"/>
                        <a:pt x="14856" y="15699"/>
                        <a:pt x="14856" y="15710"/>
                      </a:cubicBezTo>
                      <a:cubicBezTo>
                        <a:pt x="14856" y="15725"/>
                        <a:pt x="14856" y="15739"/>
                        <a:pt x="14856" y="15753"/>
                      </a:cubicBezTo>
                      <a:lnTo>
                        <a:pt x="21488" y="218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8" name="椭圆 14366"/>
                <p:cNvSpPr/>
                <p:nvPr/>
              </p:nvSpPr>
              <p:spPr>
                <a:xfrm>
                  <a:off x="1031400" y="2739240"/>
                  <a:ext cx="643320" cy="533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10014"/>
                      </a:solidFill>
                      <a:latin typeface="Times New Roman"/>
                    </a:rPr>
                    <a:t>+1</a:t>
                  </a:r>
                  <a:r>
                    <a:rPr b="1" lang="zh-CN" sz="2800" spc="-1" strike="noStrike">
                      <a:solidFill>
                        <a:srgbClr val="010014"/>
                      </a:solidFill>
                      <a:latin typeface="Times New Roman"/>
                      <a:ea typeface="宋体"/>
                    </a:rPr>
                    <a:t>6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299" name="组合 14367"/>
          <p:cNvGrpSpPr/>
          <p:nvPr/>
        </p:nvGrpSpPr>
        <p:grpSpPr>
          <a:xfrm>
            <a:off x="3027240" y="2295360"/>
            <a:ext cx="2053440" cy="1566720"/>
            <a:chOff x="3027240" y="2295360"/>
            <a:chExt cx="2053440" cy="1566720"/>
          </a:xfrm>
        </p:grpSpPr>
        <p:sp>
          <p:nvSpPr>
            <p:cNvPr id="300" name="任意多边形 14368"/>
            <p:cNvSpPr/>
            <p:nvPr/>
          </p:nvSpPr>
          <p:spPr>
            <a:xfrm>
              <a:off x="3119040" y="2521800"/>
              <a:ext cx="1011240" cy="393120"/>
            </a:xfrm>
            <a:custGeom>
              <a:avLst/>
              <a:gdLst/>
              <a:ahLst/>
              <a:rect l="l" t="t" r="r" b="b"/>
              <a:pathLst>
                <a:path fill="none" w="21600" h="12859">
                  <a:moveTo>
                    <a:pt x="18120" y="0"/>
                  </a:moveTo>
                  <a:cubicBezTo>
                    <a:pt x="20322" y="3381"/>
                    <a:pt x="21600" y="7419"/>
                    <a:pt x="21600" y="11756"/>
                  </a:cubicBezTo>
                  <a:cubicBezTo>
                    <a:pt x="21600" y="12128"/>
                    <a:pt x="21591" y="12497"/>
                    <a:pt x="21572" y="12860"/>
                  </a:cubicBezTo>
                </a:path>
                <a:path stroke="0" w="21600" h="12859">
                  <a:moveTo>
                    <a:pt x="21571" y="12859"/>
                  </a:moveTo>
                  <a:cubicBezTo>
                    <a:pt x="21542" y="11646"/>
                    <a:pt x="21526" y="10378"/>
                    <a:pt x="21526" y="9076"/>
                  </a:cubicBezTo>
                  <a:cubicBezTo>
                    <a:pt x="21526" y="-135"/>
                    <a:pt x="22305" y="-7602"/>
                    <a:pt x="23266" y="-7602"/>
                  </a:cubicBezTo>
                  <a:cubicBezTo>
                    <a:pt x="24227" y="-7602"/>
                    <a:pt x="25006" y="-135"/>
                    <a:pt x="25006" y="9076"/>
                  </a:cubicBezTo>
                  <a:cubicBezTo>
                    <a:pt x="25006" y="9451"/>
                    <a:pt x="25005" y="9823"/>
                    <a:pt x="25002" y="10187"/>
                  </a:cubicBezTo>
                  <a:lnTo>
                    <a:pt x="1812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文本框 14369"/>
            <p:cNvSpPr/>
            <p:nvPr/>
          </p:nvSpPr>
          <p:spPr>
            <a:xfrm>
              <a:off x="3986640" y="2819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14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组合 14370"/>
            <p:cNvGrpSpPr/>
            <p:nvPr/>
          </p:nvGrpSpPr>
          <p:grpSpPr>
            <a:xfrm>
              <a:off x="3027240" y="2295360"/>
              <a:ext cx="2053440" cy="1566720"/>
              <a:chOff x="3027240" y="2295360"/>
              <a:chExt cx="2053440" cy="1566720"/>
            </a:xfrm>
          </p:grpSpPr>
          <p:sp>
            <p:nvSpPr>
              <p:cNvPr id="303" name="任意多边形 14371"/>
              <p:cNvSpPr/>
              <p:nvPr/>
            </p:nvSpPr>
            <p:spPr>
              <a:xfrm>
                <a:off x="3027240" y="3201480"/>
                <a:ext cx="1103040" cy="550440"/>
              </a:xfrm>
              <a:custGeom>
                <a:avLst/>
                <a:gdLst/>
                <a:ahLst/>
                <a:rect l="l" t="t" r="r" b="b"/>
                <a:pathLst>
                  <a:path fill="none" w="21489" h="13083">
                    <a:moveTo>
                      <a:pt x="21488" y="2189"/>
                    </a:moveTo>
                    <a:cubicBezTo>
                      <a:pt x="21078" y="6266"/>
                      <a:pt x="19537" y="10001"/>
                      <a:pt x="17187" y="13084"/>
                    </a:cubicBezTo>
                  </a:path>
                  <a:path stroke="0" w="21489" h="13083">
                    <a:moveTo>
                      <a:pt x="17186" y="13083"/>
                    </a:moveTo>
                    <a:cubicBezTo>
                      <a:pt x="17186" y="13088"/>
                      <a:pt x="17186" y="13093"/>
                      <a:pt x="17186" y="13098"/>
                    </a:cubicBezTo>
                    <a:cubicBezTo>
                      <a:pt x="17186" y="13113"/>
                      <a:pt x="17186" y="13127"/>
                      <a:pt x="17186" y="13141"/>
                    </a:cubicBezTo>
                    <a:lnTo>
                      <a:pt x="21488" y="2189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文本框 14372"/>
              <p:cNvSpPr/>
              <p:nvPr/>
            </p:nvSpPr>
            <p:spPr>
              <a:xfrm>
                <a:off x="4721760" y="28195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10014"/>
                    </a:solidFill>
                    <a:latin typeface="Times New Roman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文本框 14373"/>
              <p:cNvSpPr/>
              <p:nvPr/>
            </p:nvSpPr>
            <p:spPr>
              <a:xfrm>
                <a:off x="4357800" y="28195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10014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06" name="组合 14374"/>
              <p:cNvGrpSpPr/>
              <p:nvPr/>
            </p:nvGrpSpPr>
            <p:grpSpPr>
              <a:xfrm>
                <a:off x="3303000" y="2295360"/>
                <a:ext cx="1562400" cy="1566720"/>
                <a:chOff x="3303000" y="2295360"/>
                <a:chExt cx="1562400" cy="1566720"/>
              </a:xfrm>
            </p:grpSpPr>
            <p:sp>
              <p:nvSpPr>
                <p:cNvPr id="307" name="任意多边形 14375"/>
                <p:cNvSpPr/>
                <p:nvPr/>
              </p:nvSpPr>
              <p:spPr>
                <a:xfrm>
                  <a:off x="3486600" y="2370960"/>
                  <a:ext cx="1011240" cy="517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16871">
                      <a:moveTo>
                        <a:pt x="16633" y="0"/>
                      </a:moveTo>
                      <a:cubicBezTo>
                        <a:pt x="19735" y="3739"/>
                        <a:pt x="21600" y="8542"/>
                        <a:pt x="21600" y="13780"/>
                      </a:cubicBezTo>
                      <a:cubicBezTo>
                        <a:pt x="21600" y="14833"/>
                        <a:pt x="21525" y="15868"/>
                        <a:pt x="21380" y="16874"/>
                      </a:cubicBezTo>
                    </a:path>
                    <a:path stroke="0" w="21600" h="16871">
                      <a:moveTo>
                        <a:pt x="21377" y="16871"/>
                      </a:moveTo>
                      <a:cubicBezTo>
                        <a:pt x="21375" y="16574"/>
                        <a:pt x="21374" y="16274"/>
                        <a:pt x="21374" y="15973"/>
                      </a:cubicBezTo>
                      <a:cubicBezTo>
                        <a:pt x="21374" y="6203"/>
                        <a:pt x="22486" y="-1717"/>
                        <a:pt x="23857" y="-1717"/>
                      </a:cubicBezTo>
                      <a:cubicBezTo>
                        <a:pt x="25228" y="-1717"/>
                        <a:pt x="26340" y="6203"/>
                        <a:pt x="26340" y="15973"/>
                      </a:cubicBezTo>
                      <a:cubicBezTo>
                        <a:pt x="26340" y="16497"/>
                        <a:pt x="26337" y="17016"/>
                        <a:pt x="26331" y="17524"/>
                      </a:cubicBezTo>
                      <a:lnTo>
                        <a:pt x="16633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8" name="任意多边形 14376"/>
                <p:cNvSpPr/>
                <p:nvPr/>
              </p:nvSpPr>
              <p:spPr>
                <a:xfrm>
                  <a:off x="3394800" y="3201480"/>
                  <a:ext cx="1095120" cy="588240"/>
                </a:xfrm>
                <a:custGeom>
                  <a:avLst/>
                  <a:gdLst/>
                  <a:ahLst/>
                  <a:rect l="l" t="t" r="r" b="b"/>
                  <a:pathLst>
                    <a:path fill="none" w="21489" h="13977">
                      <a:moveTo>
                        <a:pt x="21488" y="2189"/>
                      </a:moveTo>
                      <a:cubicBezTo>
                        <a:pt x="21037" y="6667"/>
                        <a:pt x="19223" y="10734"/>
                        <a:pt x="16467" y="13977"/>
                      </a:cubicBezTo>
                    </a:path>
                    <a:path stroke="0" w="21489" h="13977">
                      <a:moveTo>
                        <a:pt x="16468" y="13977"/>
                      </a:moveTo>
                      <a:cubicBezTo>
                        <a:pt x="16468" y="13985"/>
                        <a:pt x="16468" y="13992"/>
                        <a:pt x="16468" y="14000"/>
                      </a:cubicBezTo>
                      <a:cubicBezTo>
                        <a:pt x="16468" y="14015"/>
                        <a:pt x="16468" y="14029"/>
                        <a:pt x="16468" y="14043"/>
                      </a:cubicBezTo>
                      <a:lnTo>
                        <a:pt x="21488" y="218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9" name="任意多边形 14377"/>
                <p:cNvSpPr/>
                <p:nvPr/>
              </p:nvSpPr>
              <p:spPr>
                <a:xfrm>
                  <a:off x="3854520" y="2295360"/>
                  <a:ext cx="1010880" cy="578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18915">
                      <a:moveTo>
                        <a:pt x="14702" y="0"/>
                      </a:moveTo>
                      <a:cubicBezTo>
                        <a:pt x="18945" y="3944"/>
                        <a:pt x="21600" y="9574"/>
                        <a:pt x="21600" y="15824"/>
                      </a:cubicBezTo>
                      <a:cubicBezTo>
                        <a:pt x="21600" y="16877"/>
                        <a:pt x="21525" y="17912"/>
                        <a:pt x="21380" y="18918"/>
                      </a:cubicBezTo>
                    </a:path>
                    <a:path stroke="0" w="21600" h="18915">
                      <a:moveTo>
                        <a:pt x="21377" y="18915"/>
                      </a:moveTo>
                      <a:cubicBezTo>
                        <a:pt x="21399" y="8680"/>
                        <a:pt x="22935" y="420"/>
                        <a:pt x="24826" y="420"/>
                      </a:cubicBezTo>
                      <a:cubicBezTo>
                        <a:pt x="26731" y="420"/>
                        <a:pt x="28275" y="8798"/>
                        <a:pt x="28275" y="19132"/>
                      </a:cubicBezTo>
                      <a:cubicBezTo>
                        <a:pt x="28275" y="19848"/>
                        <a:pt x="28268" y="20555"/>
                        <a:pt x="28253" y="21245"/>
                      </a:cubicBezTo>
                      <a:lnTo>
                        <a:pt x="14702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0" name="任意多边形 14378"/>
                <p:cNvSpPr/>
                <p:nvPr/>
              </p:nvSpPr>
              <p:spPr>
                <a:xfrm>
                  <a:off x="3762360" y="3201480"/>
                  <a:ext cx="1095480" cy="660600"/>
                </a:xfrm>
                <a:custGeom>
                  <a:avLst/>
                  <a:gdLst/>
                  <a:ahLst/>
                  <a:rect l="l" t="t" r="r" b="b"/>
                  <a:pathLst>
                    <a:path fill="none" w="21489" h="15679">
                      <a:moveTo>
                        <a:pt x="21488" y="2189"/>
                      </a:moveTo>
                      <a:cubicBezTo>
                        <a:pt x="20954" y="7488"/>
                        <a:pt x="18510" y="12216"/>
                        <a:pt x="14856" y="15679"/>
                      </a:cubicBezTo>
                    </a:path>
                    <a:path stroke="0" w="21489" h="15679">
                      <a:moveTo>
                        <a:pt x="14856" y="15678"/>
                      </a:moveTo>
                      <a:cubicBezTo>
                        <a:pt x="14856" y="15689"/>
                        <a:pt x="14856" y="15699"/>
                        <a:pt x="14856" y="15710"/>
                      </a:cubicBezTo>
                      <a:cubicBezTo>
                        <a:pt x="14856" y="15725"/>
                        <a:pt x="14856" y="15739"/>
                        <a:pt x="14856" y="15753"/>
                      </a:cubicBezTo>
                      <a:lnTo>
                        <a:pt x="21488" y="218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1" name="椭圆 14379"/>
                <p:cNvSpPr/>
                <p:nvPr/>
              </p:nvSpPr>
              <p:spPr>
                <a:xfrm>
                  <a:off x="3303000" y="2823840"/>
                  <a:ext cx="643320" cy="52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10014"/>
                      </a:solidFill>
                      <a:latin typeface="Times New Roman"/>
                    </a:rPr>
                    <a:t>+1</a:t>
                  </a:r>
                  <a:r>
                    <a:rPr b="1" lang="zh-CN" sz="2800" spc="-1" strike="noStrike">
                      <a:solidFill>
                        <a:srgbClr val="010014"/>
                      </a:solidFill>
                      <a:latin typeface="Times New Roman"/>
                      <a:ea typeface="宋体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12" name="组合 14380"/>
          <p:cNvGrpSpPr/>
          <p:nvPr/>
        </p:nvGrpSpPr>
        <p:grpSpPr>
          <a:xfrm>
            <a:off x="5869080" y="2205000"/>
            <a:ext cx="2053080" cy="1579320"/>
            <a:chOff x="5869080" y="2205000"/>
            <a:chExt cx="2053080" cy="1579320"/>
          </a:xfrm>
        </p:grpSpPr>
        <p:sp>
          <p:nvSpPr>
            <p:cNvPr id="313" name="任意多边形 14381"/>
            <p:cNvSpPr/>
            <p:nvPr/>
          </p:nvSpPr>
          <p:spPr>
            <a:xfrm>
              <a:off x="5960880" y="2433240"/>
              <a:ext cx="1011240" cy="396000"/>
            </a:xfrm>
            <a:custGeom>
              <a:avLst/>
              <a:gdLst/>
              <a:ahLst/>
              <a:rect l="l" t="t" r="r" b="b"/>
              <a:pathLst>
                <a:path fill="none" w="21600" h="12859">
                  <a:moveTo>
                    <a:pt x="18120" y="0"/>
                  </a:moveTo>
                  <a:cubicBezTo>
                    <a:pt x="20322" y="3381"/>
                    <a:pt x="21600" y="7419"/>
                    <a:pt x="21600" y="11756"/>
                  </a:cubicBezTo>
                  <a:cubicBezTo>
                    <a:pt x="21600" y="12128"/>
                    <a:pt x="21591" y="12497"/>
                    <a:pt x="21572" y="12860"/>
                  </a:cubicBezTo>
                </a:path>
                <a:path stroke="0" w="21600" h="12859">
                  <a:moveTo>
                    <a:pt x="21571" y="12859"/>
                  </a:moveTo>
                  <a:cubicBezTo>
                    <a:pt x="21542" y="11646"/>
                    <a:pt x="21526" y="10378"/>
                    <a:pt x="21526" y="9076"/>
                  </a:cubicBezTo>
                  <a:cubicBezTo>
                    <a:pt x="21526" y="-135"/>
                    <a:pt x="22305" y="-7602"/>
                    <a:pt x="23266" y="-7602"/>
                  </a:cubicBezTo>
                  <a:cubicBezTo>
                    <a:pt x="24227" y="-7602"/>
                    <a:pt x="25006" y="-135"/>
                    <a:pt x="25006" y="9076"/>
                  </a:cubicBezTo>
                  <a:cubicBezTo>
                    <a:pt x="25006" y="9451"/>
                    <a:pt x="25005" y="9823"/>
                    <a:pt x="25002" y="10187"/>
                  </a:cubicBezTo>
                  <a:lnTo>
                    <a:pt x="1812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文本框 14382"/>
            <p:cNvSpPr/>
            <p:nvPr/>
          </p:nvSpPr>
          <p:spPr>
            <a:xfrm>
              <a:off x="6828120" y="2735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14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5" name="组合 14383"/>
            <p:cNvGrpSpPr/>
            <p:nvPr/>
          </p:nvGrpSpPr>
          <p:grpSpPr>
            <a:xfrm>
              <a:off x="5869080" y="2205000"/>
              <a:ext cx="2053080" cy="1579320"/>
              <a:chOff x="5869080" y="2205000"/>
              <a:chExt cx="2053080" cy="1579320"/>
            </a:xfrm>
          </p:grpSpPr>
          <p:sp>
            <p:nvSpPr>
              <p:cNvPr id="316" name="任意多边形 14384"/>
              <p:cNvSpPr/>
              <p:nvPr/>
            </p:nvSpPr>
            <p:spPr>
              <a:xfrm>
                <a:off x="5869080" y="3118320"/>
                <a:ext cx="1103040" cy="554760"/>
              </a:xfrm>
              <a:custGeom>
                <a:avLst/>
                <a:gdLst/>
                <a:ahLst/>
                <a:rect l="l" t="t" r="r" b="b"/>
                <a:pathLst>
                  <a:path fill="none" w="21489" h="13083">
                    <a:moveTo>
                      <a:pt x="21488" y="2189"/>
                    </a:moveTo>
                    <a:cubicBezTo>
                      <a:pt x="21078" y="6266"/>
                      <a:pt x="19537" y="10001"/>
                      <a:pt x="17187" y="13084"/>
                    </a:cubicBezTo>
                  </a:path>
                  <a:path stroke="0" w="21489" h="13083">
                    <a:moveTo>
                      <a:pt x="17186" y="13083"/>
                    </a:moveTo>
                    <a:cubicBezTo>
                      <a:pt x="17186" y="13088"/>
                      <a:pt x="17186" y="13093"/>
                      <a:pt x="17186" y="13098"/>
                    </a:cubicBezTo>
                    <a:cubicBezTo>
                      <a:pt x="17186" y="13113"/>
                      <a:pt x="17186" y="13127"/>
                      <a:pt x="17186" y="13141"/>
                    </a:cubicBezTo>
                    <a:lnTo>
                      <a:pt x="21488" y="2189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文本框 14385"/>
              <p:cNvSpPr/>
              <p:nvPr/>
            </p:nvSpPr>
            <p:spPr>
              <a:xfrm>
                <a:off x="7563240" y="27352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10014"/>
                    </a:solidFill>
                    <a:latin typeface="Times New Roman"/>
                    <a:ea typeface="宋体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文本框 14386"/>
              <p:cNvSpPr/>
              <p:nvPr/>
            </p:nvSpPr>
            <p:spPr>
              <a:xfrm>
                <a:off x="7199280" y="27352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10014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19" name="组合 14387"/>
              <p:cNvGrpSpPr/>
              <p:nvPr/>
            </p:nvGrpSpPr>
            <p:grpSpPr>
              <a:xfrm>
                <a:off x="6144840" y="2205000"/>
                <a:ext cx="1561680" cy="1579320"/>
                <a:chOff x="6144840" y="2205000"/>
                <a:chExt cx="1561680" cy="1579320"/>
              </a:xfrm>
            </p:grpSpPr>
            <p:sp>
              <p:nvSpPr>
                <p:cNvPr id="320" name="任意多边形 14388"/>
                <p:cNvSpPr/>
                <p:nvPr/>
              </p:nvSpPr>
              <p:spPr>
                <a:xfrm>
                  <a:off x="6328440" y="2280960"/>
                  <a:ext cx="1011240" cy="521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16871">
                      <a:moveTo>
                        <a:pt x="16633" y="0"/>
                      </a:moveTo>
                      <a:cubicBezTo>
                        <a:pt x="19735" y="3739"/>
                        <a:pt x="21600" y="8542"/>
                        <a:pt x="21600" y="13780"/>
                      </a:cubicBezTo>
                      <a:cubicBezTo>
                        <a:pt x="21600" y="14833"/>
                        <a:pt x="21525" y="15868"/>
                        <a:pt x="21380" y="16874"/>
                      </a:cubicBezTo>
                    </a:path>
                    <a:path stroke="0" w="21600" h="16871">
                      <a:moveTo>
                        <a:pt x="21377" y="16871"/>
                      </a:moveTo>
                      <a:cubicBezTo>
                        <a:pt x="21375" y="16574"/>
                        <a:pt x="21374" y="16274"/>
                        <a:pt x="21374" y="15973"/>
                      </a:cubicBezTo>
                      <a:cubicBezTo>
                        <a:pt x="21374" y="6203"/>
                        <a:pt x="22486" y="-1717"/>
                        <a:pt x="23857" y="-1717"/>
                      </a:cubicBezTo>
                      <a:cubicBezTo>
                        <a:pt x="25228" y="-1717"/>
                        <a:pt x="26340" y="6203"/>
                        <a:pt x="26340" y="15973"/>
                      </a:cubicBezTo>
                      <a:cubicBezTo>
                        <a:pt x="26340" y="16497"/>
                        <a:pt x="26337" y="17016"/>
                        <a:pt x="26331" y="17524"/>
                      </a:cubicBezTo>
                      <a:lnTo>
                        <a:pt x="16633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1" name="任意多边形 14389"/>
                <p:cNvSpPr/>
                <p:nvPr/>
              </p:nvSpPr>
              <p:spPr>
                <a:xfrm>
                  <a:off x="6236640" y="3118320"/>
                  <a:ext cx="1094760" cy="592920"/>
                </a:xfrm>
                <a:custGeom>
                  <a:avLst/>
                  <a:gdLst/>
                  <a:ahLst/>
                  <a:rect l="l" t="t" r="r" b="b"/>
                  <a:pathLst>
                    <a:path fill="none" w="21489" h="13977">
                      <a:moveTo>
                        <a:pt x="21488" y="2189"/>
                      </a:moveTo>
                      <a:cubicBezTo>
                        <a:pt x="21037" y="6667"/>
                        <a:pt x="19223" y="10734"/>
                        <a:pt x="16467" y="13977"/>
                      </a:cubicBezTo>
                    </a:path>
                    <a:path stroke="0" w="21489" h="13977">
                      <a:moveTo>
                        <a:pt x="16468" y="13977"/>
                      </a:moveTo>
                      <a:cubicBezTo>
                        <a:pt x="16468" y="13985"/>
                        <a:pt x="16468" y="13992"/>
                        <a:pt x="16468" y="14000"/>
                      </a:cubicBezTo>
                      <a:cubicBezTo>
                        <a:pt x="16468" y="14015"/>
                        <a:pt x="16468" y="14029"/>
                        <a:pt x="16468" y="14043"/>
                      </a:cubicBezTo>
                      <a:lnTo>
                        <a:pt x="21488" y="218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2" name="任意多边形 14390"/>
                <p:cNvSpPr/>
                <p:nvPr/>
              </p:nvSpPr>
              <p:spPr>
                <a:xfrm>
                  <a:off x="6696000" y="2205000"/>
                  <a:ext cx="1010520" cy="583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18915">
                      <a:moveTo>
                        <a:pt x="14702" y="0"/>
                      </a:moveTo>
                      <a:cubicBezTo>
                        <a:pt x="18945" y="3944"/>
                        <a:pt x="21600" y="9574"/>
                        <a:pt x="21600" y="15824"/>
                      </a:cubicBezTo>
                      <a:cubicBezTo>
                        <a:pt x="21600" y="16877"/>
                        <a:pt x="21525" y="17912"/>
                        <a:pt x="21380" y="18918"/>
                      </a:cubicBezTo>
                    </a:path>
                    <a:path stroke="0" w="21600" h="18915">
                      <a:moveTo>
                        <a:pt x="21377" y="18915"/>
                      </a:moveTo>
                      <a:cubicBezTo>
                        <a:pt x="21399" y="8680"/>
                        <a:pt x="22935" y="420"/>
                        <a:pt x="24826" y="420"/>
                      </a:cubicBezTo>
                      <a:cubicBezTo>
                        <a:pt x="26731" y="420"/>
                        <a:pt x="28275" y="8798"/>
                        <a:pt x="28275" y="19132"/>
                      </a:cubicBezTo>
                      <a:cubicBezTo>
                        <a:pt x="28275" y="19848"/>
                        <a:pt x="28268" y="20555"/>
                        <a:pt x="28253" y="21245"/>
                      </a:cubicBezTo>
                      <a:lnTo>
                        <a:pt x="14702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3" name="任意多边形 14391"/>
                <p:cNvSpPr/>
                <p:nvPr/>
              </p:nvSpPr>
              <p:spPr>
                <a:xfrm>
                  <a:off x="6604200" y="3118320"/>
                  <a:ext cx="1095480" cy="666000"/>
                </a:xfrm>
                <a:custGeom>
                  <a:avLst/>
                  <a:gdLst/>
                  <a:ahLst/>
                  <a:rect l="l" t="t" r="r" b="b"/>
                  <a:pathLst>
                    <a:path fill="none" w="21489" h="15679">
                      <a:moveTo>
                        <a:pt x="21488" y="2189"/>
                      </a:moveTo>
                      <a:cubicBezTo>
                        <a:pt x="20954" y="7488"/>
                        <a:pt x="18510" y="12216"/>
                        <a:pt x="14856" y="15679"/>
                      </a:cubicBezTo>
                    </a:path>
                    <a:path stroke="0" w="21489" h="15679">
                      <a:moveTo>
                        <a:pt x="14856" y="15678"/>
                      </a:moveTo>
                      <a:cubicBezTo>
                        <a:pt x="14856" y="15689"/>
                        <a:pt x="14856" y="15699"/>
                        <a:pt x="14856" y="15710"/>
                      </a:cubicBezTo>
                      <a:cubicBezTo>
                        <a:pt x="14856" y="15725"/>
                        <a:pt x="14856" y="15739"/>
                        <a:pt x="14856" y="15753"/>
                      </a:cubicBezTo>
                      <a:lnTo>
                        <a:pt x="21488" y="218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4" name="椭圆 14392"/>
                <p:cNvSpPr/>
                <p:nvPr/>
              </p:nvSpPr>
              <p:spPr>
                <a:xfrm>
                  <a:off x="6144840" y="2737800"/>
                  <a:ext cx="643320" cy="53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10014"/>
                      </a:solidFill>
                      <a:latin typeface="Times New Roman"/>
                    </a:rPr>
                    <a:t>+1</a:t>
                  </a:r>
                  <a:r>
                    <a:rPr b="1" lang="zh-CN" sz="2800" spc="-1" strike="noStrike">
                      <a:solidFill>
                        <a:srgbClr val="010014"/>
                      </a:solidFill>
                      <a:latin typeface="Times New Roman"/>
                      <a:ea typeface="宋体"/>
                    </a:rPr>
                    <a:t>7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25" name="组合 14393"/>
          <p:cNvGrpSpPr/>
          <p:nvPr/>
        </p:nvGrpSpPr>
        <p:grpSpPr>
          <a:xfrm>
            <a:off x="3276720" y="4572720"/>
            <a:ext cx="1584360" cy="1602360"/>
            <a:chOff x="3276720" y="4572720"/>
            <a:chExt cx="1584360" cy="1602360"/>
          </a:xfrm>
        </p:grpSpPr>
        <p:sp>
          <p:nvSpPr>
            <p:cNvPr id="326" name="任意多边形 14394"/>
            <p:cNvSpPr/>
            <p:nvPr/>
          </p:nvSpPr>
          <p:spPr>
            <a:xfrm rot="21180000">
              <a:off x="3319920" y="4797000"/>
              <a:ext cx="1011960" cy="439560"/>
            </a:xfrm>
            <a:custGeom>
              <a:avLst/>
              <a:gdLst/>
              <a:ahLst/>
              <a:rect l="l" t="t" r="r" b="b"/>
              <a:pathLst>
                <a:path fill="none" w="21600" h="12859">
                  <a:moveTo>
                    <a:pt x="18120" y="0"/>
                  </a:moveTo>
                  <a:cubicBezTo>
                    <a:pt x="20322" y="3381"/>
                    <a:pt x="21600" y="7419"/>
                    <a:pt x="21600" y="11756"/>
                  </a:cubicBezTo>
                  <a:cubicBezTo>
                    <a:pt x="21600" y="12128"/>
                    <a:pt x="21591" y="12497"/>
                    <a:pt x="21572" y="12860"/>
                  </a:cubicBezTo>
                </a:path>
                <a:path stroke="0" w="21600" h="12859">
                  <a:moveTo>
                    <a:pt x="21571" y="12859"/>
                  </a:moveTo>
                  <a:cubicBezTo>
                    <a:pt x="21542" y="11646"/>
                    <a:pt x="21526" y="10378"/>
                    <a:pt x="21526" y="9076"/>
                  </a:cubicBezTo>
                  <a:cubicBezTo>
                    <a:pt x="21526" y="-135"/>
                    <a:pt x="22305" y="-7602"/>
                    <a:pt x="23266" y="-7602"/>
                  </a:cubicBezTo>
                  <a:cubicBezTo>
                    <a:pt x="24227" y="-7602"/>
                    <a:pt x="25006" y="-135"/>
                    <a:pt x="25006" y="9076"/>
                  </a:cubicBezTo>
                  <a:cubicBezTo>
                    <a:pt x="25006" y="9451"/>
                    <a:pt x="25005" y="9823"/>
                    <a:pt x="25002" y="10187"/>
                  </a:cubicBezTo>
                  <a:lnTo>
                    <a:pt x="1812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文本框 14395"/>
            <p:cNvSpPr/>
            <p:nvPr/>
          </p:nvSpPr>
          <p:spPr>
            <a:xfrm>
              <a:off x="4214160" y="5085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14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任意多边形 14396"/>
            <p:cNvSpPr/>
            <p:nvPr/>
          </p:nvSpPr>
          <p:spPr>
            <a:xfrm>
              <a:off x="3276720" y="5445720"/>
              <a:ext cx="1102680" cy="610920"/>
            </a:xfrm>
            <a:custGeom>
              <a:avLst/>
              <a:gdLst/>
              <a:ahLst/>
              <a:rect l="l" t="t" r="r" b="b"/>
              <a:pathLst>
                <a:path fill="none" w="21488" h="12985">
                  <a:moveTo>
                    <a:pt x="21488" y="2189"/>
                  </a:moveTo>
                  <a:cubicBezTo>
                    <a:pt x="21082" y="6223"/>
                    <a:pt x="19570" y="9922"/>
                    <a:pt x="17261" y="12986"/>
                  </a:cubicBezTo>
                </a:path>
                <a:path stroke="0" w="21488" h="12985">
                  <a:moveTo>
                    <a:pt x="17260" y="12985"/>
                  </a:moveTo>
                  <a:cubicBezTo>
                    <a:pt x="17260" y="12989"/>
                    <a:pt x="17260" y="12994"/>
                    <a:pt x="17260" y="12999"/>
                  </a:cubicBezTo>
                  <a:cubicBezTo>
                    <a:pt x="17260" y="13014"/>
                    <a:pt x="17260" y="13028"/>
                    <a:pt x="17260" y="13042"/>
                  </a:cubicBezTo>
                  <a:lnTo>
                    <a:pt x="21488" y="2189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文本框 14397"/>
            <p:cNvSpPr/>
            <p:nvPr/>
          </p:nvSpPr>
          <p:spPr>
            <a:xfrm>
              <a:off x="4502160" y="5085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14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任意多边形 14398"/>
            <p:cNvSpPr/>
            <p:nvPr/>
          </p:nvSpPr>
          <p:spPr>
            <a:xfrm rot="21540000">
              <a:off x="3636360" y="4581360"/>
              <a:ext cx="1008000" cy="641880"/>
            </a:xfrm>
            <a:custGeom>
              <a:avLst/>
              <a:gdLst/>
              <a:ahLst/>
              <a:rect l="l" t="t" r="r" b="b"/>
              <a:pathLst>
                <a:path fill="none" w="21600" h="17430">
                  <a:moveTo>
                    <a:pt x="15927" y="0"/>
                  </a:moveTo>
                  <a:cubicBezTo>
                    <a:pt x="19450" y="3843"/>
                    <a:pt x="21600" y="8965"/>
                    <a:pt x="21600" y="14590"/>
                  </a:cubicBezTo>
                  <a:cubicBezTo>
                    <a:pt x="21600" y="15556"/>
                    <a:pt x="21537" y="16507"/>
                    <a:pt x="21415" y="17433"/>
                  </a:cubicBezTo>
                </a:path>
                <a:path stroke="0" w="21600" h="17430">
                  <a:moveTo>
                    <a:pt x="21412" y="17430"/>
                  </a:moveTo>
                  <a:cubicBezTo>
                    <a:pt x="21411" y="17195"/>
                    <a:pt x="21410" y="16957"/>
                    <a:pt x="21410" y="16719"/>
                  </a:cubicBezTo>
                  <a:cubicBezTo>
                    <a:pt x="21410" y="6725"/>
                    <a:pt x="22680" y="-1376"/>
                    <a:pt x="24246" y="-1376"/>
                  </a:cubicBezTo>
                  <a:cubicBezTo>
                    <a:pt x="25812" y="-1376"/>
                    <a:pt x="27082" y="6725"/>
                    <a:pt x="27082" y="16719"/>
                  </a:cubicBezTo>
                  <a:cubicBezTo>
                    <a:pt x="27082" y="17314"/>
                    <a:pt x="27078" y="17901"/>
                    <a:pt x="27069" y="18476"/>
                  </a:cubicBezTo>
                  <a:lnTo>
                    <a:pt x="15927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任意多边形 14399"/>
            <p:cNvSpPr/>
            <p:nvPr/>
          </p:nvSpPr>
          <p:spPr>
            <a:xfrm>
              <a:off x="3636360" y="5517360"/>
              <a:ext cx="1095840" cy="657720"/>
            </a:xfrm>
            <a:custGeom>
              <a:avLst/>
              <a:gdLst/>
              <a:ahLst/>
              <a:rect l="l" t="t" r="r" b="b"/>
              <a:pathLst>
                <a:path fill="none" w="21489" h="13977">
                  <a:moveTo>
                    <a:pt x="21488" y="2189"/>
                  </a:moveTo>
                  <a:cubicBezTo>
                    <a:pt x="21037" y="6667"/>
                    <a:pt x="19223" y="10734"/>
                    <a:pt x="16467" y="13977"/>
                  </a:cubicBezTo>
                </a:path>
                <a:path stroke="0" w="21489" h="13977">
                  <a:moveTo>
                    <a:pt x="16468" y="13977"/>
                  </a:moveTo>
                  <a:cubicBezTo>
                    <a:pt x="16468" y="13985"/>
                    <a:pt x="16468" y="13992"/>
                    <a:pt x="16468" y="14000"/>
                  </a:cubicBezTo>
                  <a:cubicBezTo>
                    <a:pt x="16468" y="14015"/>
                    <a:pt x="16468" y="14029"/>
                    <a:pt x="16468" y="14043"/>
                  </a:cubicBezTo>
                  <a:lnTo>
                    <a:pt x="21488" y="2189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椭圆 14400"/>
            <p:cNvSpPr/>
            <p:nvPr/>
          </p:nvSpPr>
          <p:spPr>
            <a:xfrm>
              <a:off x="3564720" y="5085360"/>
              <a:ext cx="642960" cy="59112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14"/>
                  </a:solidFill>
                  <a:latin typeface="Times New Roman"/>
                </a:rPr>
                <a:t>+</a:t>
              </a:r>
              <a:r>
                <a:rPr b="1" lang="zh-CN" sz="2800" spc="-1" strike="noStrike">
                  <a:solidFill>
                    <a:srgbClr val="010014"/>
                  </a:solidFill>
                  <a:latin typeface="Times New Roman"/>
                  <a:ea typeface="宋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3" name="组合 14401"/>
          <p:cNvGrpSpPr/>
          <p:nvPr/>
        </p:nvGrpSpPr>
        <p:grpSpPr>
          <a:xfrm>
            <a:off x="676440" y="4661640"/>
            <a:ext cx="1584360" cy="1602360"/>
            <a:chOff x="676440" y="4661640"/>
            <a:chExt cx="1584360" cy="1602360"/>
          </a:xfrm>
        </p:grpSpPr>
        <p:sp>
          <p:nvSpPr>
            <p:cNvPr id="334" name="任意多边形 14402"/>
            <p:cNvSpPr/>
            <p:nvPr/>
          </p:nvSpPr>
          <p:spPr>
            <a:xfrm rot="21180000">
              <a:off x="719640" y="4885920"/>
              <a:ext cx="1011960" cy="439560"/>
            </a:xfrm>
            <a:custGeom>
              <a:avLst/>
              <a:gdLst/>
              <a:ahLst/>
              <a:rect l="l" t="t" r="r" b="b"/>
              <a:pathLst>
                <a:path fill="none" w="21600" h="12859">
                  <a:moveTo>
                    <a:pt x="18120" y="0"/>
                  </a:moveTo>
                  <a:cubicBezTo>
                    <a:pt x="20322" y="3381"/>
                    <a:pt x="21600" y="7419"/>
                    <a:pt x="21600" y="11756"/>
                  </a:cubicBezTo>
                  <a:cubicBezTo>
                    <a:pt x="21600" y="12128"/>
                    <a:pt x="21591" y="12497"/>
                    <a:pt x="21572" y="12860"/>
                  </a:cubicBezTo>
                </a:path>
                <a:path stroke="0" w="21600" h="12859">
                  <a:moveTo>
                    <a:pt x="21571" y="12859"/>
                  </a:moveTo>
                  <a:cubicBezTo>
                    <a:pt x="21542" y="11646"/>
                    <a:pt x="21526" y="10378"/>
                    <a:pt x="21526" y="9076"/>
                  </a:cubicBezTo>
                  <a:cubicBezTo>
                    <a:pt x="21526" y="-135"/>
                    <a:pt x="22305" y="-7602"/>
                    <a:pt x="23266" y="-7602"/>
                  </a:cubicBezTo>
                  <a:cubicBezTo>
                    <a:pt x="24227" y="-7602"/>
                    <a:pt x="25006" y="-135"/>
                    <a:pt x="25006" y="9076"/>
                  </a:cubicBezTo>
                  <a:cubicBezTo>
                    <a:pt x="25006" y="9451"/>
                    <a:pt x="25005" y="9823"/>
                    <a:pt x="25002" y="10187"/>
                  </a:cubicBezTo>
                  <a:lnTo>
                    <a:pt x="1812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文本框 14403"/>
            <p:cNvSpPr/>
            <p:nvPr/>
          </p:nvSpPr>
          <p:spPr>
            <a:xfrm>
              <a:off x="1613880" y="5173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14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任意多边形 14404"/>
            <p:cNvSpPr/>
            <p:nvPr/>
          </p:nvSpPr>
          <p:spPr>
            <a:xfrm>
              <a:off x="676440" y="5534640"/>
              <a:ext cx="1102680" cy="610920"/>
            </a:xfrm>
            <a:custGeom>
              <a:avLst/>
              <a:gdLst/>
              <a:ahLst/>
              <a:rect l="l" t="t" r="r" b="b"/>
              <a:pathLst>
                <a:path fill="none" w="21488" h="12985">
                  <a:moveTo>
                    <a:pt x="21488" y="2189"/>
                  </a:moveTo>
                  <a:cubicBezTo>
                    <a:pt x="21082" y="6223"/>
                    <a:pt x="19570" y="9922"/>
                    <a:pt x="17261" y="12986"/>
                  </a:cubicBezTo>
                </a:path>
                <a:path stroke="0" w="21488" h="12985">
                  <a:moveTo>
                    <a:pt x="17260" y="12985"/>
                  </a:moveTo>
                  <a:cubicBezTo>
                    <a:pt x="17260" y="12989"/>
                    <a:pt x="17260" y="12994"/>
                    <a:pt x="17260" y="12999"/>
                  </a:cubicBezTo>
                  <a:cubicBezTo>
                    <a:pt x="17260" y="13014"/>
                    <a:pt x="17260" y="13028"/>
                    <a:pt x="17260" y="13042"/>
                  </a:cubicBezTo>
                  <a:lnTo>
                    <a:pt x="21488" y="2189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文本框 14405"/>
            <p:cNvSpPr/>
            <p:nvPr/>
          </p:nvSpPr>
          <p:spPr>
            <a:xfrm>
              <a:off x="1901880" y="5173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14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任意多边形 14406"/>
            <p:cNvSpPr/>
            <p:nvPr/>
          </p:nvSpPr>
          <p:spPr>
            <a:xfrm rot="21540000">
              <a:off x="1036080" y="4670280"/>
              <a:ext cx="1008000" cy="641880"/>
            </a:xfrm>
            <a:custGeom>
              <a:avLst/>
              <a:gdLst/>
              <a:ahLst/>
              <a:rect l="l" t="t" r="r" b="b"/>
              <a:pathLst>
                <a:path fill="none" w="21600" h="17430">
                  <a:moveTo>
                    <a:pt x="15927" y="0"/>
                  </a:moveTo>
                  <a:cubicBezTo>
                    <a:pt x="19450" y="3843"/>
                    <a:pt x="21600" y="8965"/>
                    <a:pt x="21600" y="14590"/>
                  </a:cubicBezTo>
                  <a:cubicBezTo>
                    <a:pt x="21600" y="15556"/>
                    <a:pt x="21537" y="16507"/>
                    <a:pt x="21415" y="17433"/>
                  </a:cubicBezTo>
                </a:path>
                <a:path stroke="0" w="21600" h="17430">
                  <a:moveTo>
                    <a:pt x="21412" y="17430"/>
                  </a:moveTo>
                  <a:cubicBezTo>
                    <a:pt x="21411" y="17195"/>
                    <a:pt x="21410" y="16957"/>
                    <a:pt x="21410" y="16719"/>
                  </a:cubicBezTo>
                  <a:cubicBezTo>
                    <a:pt x="21410" y="6725"/>
                    <a:pt x="22680" y="-1376"/>
                    <a:pt x="24246" y="-1376"/>
                  </a:cubicBezTo>
                  <a:cubicBezTo>
                    <a:pt x="25812" y="-1376"/>
                    <a:pt x="27082" y="6725"/>
                    <a:pt x="27082" y="16719"/>
                  </a:cubicBezTo>
                  <a:cubicBezTo>
                    <a:pt x="27082" y="17314"/>
                    <a:pt x="27078" y="17901"/>
                    <a:pt x="27069" y="18476"/>
                  </a:cubicBezTo>
                  <a:lnTo>
                    <a:pt x="15927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任意多边形 14407"/>
            <p:cNvSpPr/>
            <p:nvPr/>
          </p:nvSpPr>
          <p:spPr>
            <a:xfrm>
              <a:off x="1036080" y="5606280"/>
              <a:ext cx="1095840" cy="657720"/>
            </a:xfrm>
            <a:custGeom>
              <a:avLst/>
              <a:gdLst/>
              <a:ahLst/>
              <a:rect l="l" t="t" r="r" b="b"/>
              <a:pathLst>
                <a:path fill="none" w="21489" h="13977">
                  <a:moveTo>
                    <a:pt x="21488" y="2189"/>
                  </a:moveTo>
                  <a:cubicBezTo>
                    <a:pt x="21037" y="6667"/>
                    <a:pt x="19223" y="10734"/>
                    <a:pt x="16467" y="13977"/>
                  </a:cubicBezTo>
                </a:path>
                <a:path stroke="0" w="21489" h="13977">
                  <a:moveTo>
                    <a:pt x="16468" y="13977"/>
                  </a:moveTo>
                  <a:cubicBezTo>
                    <a:pt x="16468" y="13985"/>
                    <a:pt x="16468" y="13992"/>
                    <a:pt x="16468" y="14000"/>
                  </a:cubicBezTo>
                  <a:cubicBezTo>
                    <a:pt x="16468" y="14015"/>
                    <a:pt x="16468" y="14029"/>
                    <a:pt x="16468" y="14043"/>
                  </a:cubicBezTo>
                  <a:lnTo>
                    <a:pt x="21488" y="2189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椭圆 14408"/>
            <p:cNvSpPr/>
            <p:nvPr/>
          </p:nvSpPr>
          <p:spPr>
            <a:xfrm>
              <a:off x="964440" y="5174280"/>
              <a:ext cx="642960" cy="59112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14"/>
                  </a:solidFill>
                  <a:latin typeface="Times New Roman"/>
                </a:rPr>
                <a:t>+</a:t>
              </a:r>
              <a:r>
                <a:rPr b="1" lang="zh-CN" sz="2800" spc="-1" strike="noStrike">
                  <a:solidFill>
                    <a:srgbClr val="010014"/>
                  </a:solidFill>
                  <a:latin typeface="Times New Roman"/>
                  <a:ea typeface="宋体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1" name="组合 14409"/>
          <p:cNvGrpSpPr/>
          <p:nvPr/>
        </p:nvGrpSpPr>
        <p:grpSpPr>
          <a:xfrm>
            <a:off x="6383160" y="4512600"/>
            <a:ext cx="1584720" cy="1602360"/>
            <a:chOff x="6383160" y="4512600"/>
            <a:chExt cx="1584720" cy="1602360"/>
          </a:xfrm>
        </p:grpSpPr>
        <p:sp>
          <p:nvSpPr>
            <p:cNvPr id="342" name="任意多边形 14410"/>
            <p:cNvSpPr/>
            <p:nvPr/>
          </p:nvSpPr>
          <p:spPr>
            <a:xfrm rot="21180000">
              <a:off x="6426360" y="4736880"/>
              <a:ext cx="1011960" cy="439200"/>
            </a:xfrm>
            <a:custGeom>
              <a:avLst/>
              <a:gdLst/>
              <a:ahLst/>
              <a:rect l="l" t="t" r="r" b="b"/>
              <a:pathLst>
                <a:path fill="none" w="21600" h="12859">
                  <a:moveTo>
                    <a:pt x="18120" y="0"/>
                  </a:moveTo>
                  <a:cubicBezTo>
                    <a:pt x="20322" y="3381"/>
                    <a:pt x="21600" y="7419"/>
                    <a:pt x="21600" y="11756"/>
                  </a:cubicBezTo>
                  <a:cubicBezTo>
                    <a:pt x="21600" y="12128"/>
                    <a:pt x="21591" y="12497"/>
                    <a:pt x="21572" y="12860"/>
                  </a:cubicBezTo>
                </a:path>
                <a:path stroke="0" w="21600" h="12859">
                  <a:moveTo>
                    <a:pt x="21571" y="12859"/>
                  </a:moveTo>
                  <a:cubicBezTo>
                    <a:pt x="21542" y="11646"/>
                    <a:pt x="21526" y="10378"/>
                    <a:pt x="21526" y="9076"/>
                  </a:cubicBezTo>
                  <a:cubicBezTo>
                    <a:pt x="21526" y="-135"/>
                    <a:pt x="22305" y="-7602"/>
                    <a:pt x="23266" y="-7602"/>
                  </a:cubicBezTo>
                  <a:cubicBezTo>
                    <a:pt x="24227" y="-7602"/>
                    <a:pt x="25006" y="-135"/>
                    <a:pt x="25006" y="9076"/>
                  </a:cubicBezTo>
                  <a:cubicBezTo>
                    <a:pt x="25006" y="9451"/>
                    <a:pt x="25005" y="9823"/>
                    <a:pt x="25002" y="10187"/>
                  </a:cubicBezTo>
                  <a:lnTo>
                    <a:pt x="1812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文本框 14411"/>
            <p:cNvSpPr/>
            <p:nvPr/>
          </p:nvSpPr>
          <p:spPr>
            <a:xfrm>
              <a:off x="7320960" y="5024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14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任意多边形 14412"/>
            <p:cNvSpPr/>
            <p:nvPr/>
          </p:nvSpPr>
          <p:spPr>
            <a:xfrm>
              <a:off x="6383160" y="5385600"/>
              <a:ext cx="1103040" cy="610560"/>
            </a:xfrm>
            <a:custGeom>
              <a:avLst/>
              <a:gdLst/>
              <a:ahLst/>
              <a:rect l="l" t="t" r="r" b="b"/>
              <a:pathLst>
                <a:path fill="none" w="21488" h="12985">
                  <a:moveTo>
                    <a:pt x="21488" y="2189"/>
                  </a:moveTo>
                  <a:cubicBezTo>
                    <a:pt x="21082" y="6223"/>
                    <a:pt x="19570" y="9922"/>
                    <a:pt x="17261" y="12986"/>
                  </a:cubicBezTo>
                </a:path>
                <a:path stroke="0" w="21488" h="12985">
                  <a:moveTo>
                    <a:pt x="17260" y="12985"/>
                  </a:moveTo>
                  <a:cubicBezTo>
                    <a:pt x="17260" y="12989"/>
                    <a:pt x="17260" y="12994"/>
                    <a:pt x="17260" y="12999"/>
                  </a:cubicBezTo>
                  <a:cubicBezTo>
                    <a:pt x="17260" y="13014"/>
                    <a:pt x="17260" y="13028"/>
                    <a:pt x="17260" y="13042"/>
                  </a:cubicBezTo>
                  <a:lnTo>
                    <a:pt x="21488" y="2189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文本框 14413"/>
            <p:cNvSpPr/>
            <p:nvPr/>
          </p:nvSpPr>
          <p:spPr>
            <a:xfrm>
              <a:off x="7608960" y="5024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14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任意多边形 14414"/>
            <p:cNvSpPr/>
            <p:nvPr/>
          </p:nvSpPr>
          <p:spPr>
            <a:xfrm rot="21540000">
              <a:off x="6743160" y="4521240"/>
              <a:ext cx="1008360" cy="641880"/>
            </a:xfrm>
            <a:custGeom>
              <a:avLst/>
              <a:gdLst/>
              <a:ahLst/>
              <a:rect l="l" t="t" r="r" b="b"/>
              <a:pathLst>
                <a:path fill="none" w="21600" h="17430">
                  <a:moveTo>
                    <a:pt x="15927" y="0"/>
                  </a:moveTo>
                  <a:cubicBezTo>
                    <a:pt x="19450" y="3843"/>
                    <a:pt x="21600" y="8965"/>
                    <a:pt x="21600" y="14590"/>
                  </a:cubicBezTo>
                  <a:cubicBezTo>
                    <a:pt x="21600" y="15556"/>
                    <a:pt x="21537" y="16507"/>
                    <a:pt x="21415" y="17433"/>
                  </a:cubicBezTo>
                </a:path>
                <a:path stroke="0" w="21600" h="17430">
                  <a:moveTo>
                    <a:pt x="21412" y="17430"/>
                  </a:moveTo>
                  <a:cubicBezTo>
                    <a:pt x="21411" y="17195"/>
                    <a:pt x="21410" y="16957"/>
                    <a:pt x="21410" y="16719"/>
                  </a:cubicBezTo>
                  <a:cubicBezTo>
                    <a:pt x="21410" y="6725"/>
                    <a:pt x="22680" y="-1376"/>
                    <a:pt x="24246" y="-1376"/>
                  </a:cubicBezTo>
                  <a:cubicBezTo>
                    <a:pt x="25812" y="-1376"/>
                    <a:pt x="27082" y="6725"/>
                    <a:pt x="27082" y="16719"/>
                  </a:cubicBezTo>
                  <a:cubicBezTo>
                    <a:pt x="27082" y="17314"/>
                    <a:pt x="27078" y="17901"/>
                    <a:pt x="27069" y="18476"/>
                  </a:cubicBezTo>
                  <a:lnTo>
                    <a:pt x="15927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任意多边形 14415"/>
            <p:cNvSpPr/>
            <p:nvPr/>
          </p:nvSpPr>
          <p:spPr>
            <a:xfrm>
              <a:off x="6743160" y="5457240"/>
              <a:ext cx="1095840" cy="657720"/>
            </a:xfrm>
            <a:custGeom>
              <a:avLst/>
              <a:gdLst/>
              <a:ahLst/>
              <a:rect l="l" t="t" r="r" b="b"/>
              <a:pathLst>
                <a:path fill="none" w="21489" h="13977">
                  <a:moveTo>
                    <a:pt x="21488" y="2189"/>
                  </a:moveTo>
                  <a:cubicBezTo>
                    <a:pt x="21037" y="6667"/>
                    <a:pt x="19223" y="10734"/>
                    <a:pt x="16467" y="13977"/>
                  </a:cubicBezTo>
                </a:path>
                <a:path stroke="0" w="21489" h="13977">
                  <a:moveTo>
                    <a:pt x="16468" y="13977"/>
                  </a:moveTo>
                  <a:cubicBezTo>
                    <a:pt x="16468" y="13985"/>
                    <a:pt x="16468" y="13992"/>
                    <a:pt x="16468" y="14000"/>
                  </a:cubicBezTo>
                  <a:cubicBezTo>
                    <a:pt x="16468" y="14015"/>
                    <a:pt x="16468" y="14029"/>
                    <a:pt x="16468" y="14043"/>
                  </a:cubicBezTo>
                  <a:lnTo>
                    <a:pt x="21488" y="2189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椭圆 14416"/>
            <p:cNvSpPr/>
            <p:nvPr/>
          </p:nvSpPr>
          <p:spPr>
            <a:xfrm>
              <a:off x="6671160" y="5025240"/>
              <a:ext cx="643320" cy="59112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14"/>
                  </a:solidFill>
                  <a:latin typeface="Times New Roman"/>
                </a:rPr>
                <a:t>+</a:t>
              </a:r>
              <a:r>
                <a:rPr b="1" lang="zh-CN" sz="2800" spc="-1" strike="noStrike">
                  <a:solidFill>
                    <a:srgbClr val="010014"/>
                  </a:solidFill>
                  <a:latin typeface="Times New Roman"/>
                  <a:ea typeface="宋体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9" name="文本框 14417"/>
          <p:cNvSpPr/>
          <p:nvPr/>
        </p:nvSpPr>
        <p:spPr>
          <a:xfrm>
            <a:off x="252360" y="1700640"/>
            <a:ext cx="88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判断下列哪些是原子结构示意图，哪些是离子结构示意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395280" y="1342800"/>
            <a:ext cx="15127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离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左大括号 15362"/>
          <p:cNvSpPr/>
          <p:nvPr/>
        </p:nvSpPr>
        <p:spPr>
          <a:xfrm>
            <a:off x="1979640" y="982800"/>
            <a:ext cx="71280" cy="1439640"/>
          </a:xfrm>
          <a:custGeom>
            <a:avLst/>
            <a:gdLst>
              <a:gd name="textAreaLeft" fmla="*/ 45720 w 71280"/>
              <a:gd name="textAreaRight" fmla="*/ 71640 w 71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矩形 15363"/>
          <p:cNvSpPr/>
          <p:nvPr/>
        </p:nvSpPr>
        <p:spPr>
          <a:xfrm>
            <a:off x="2855520" y="911160"/>
            <a:ext cx="289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阳离子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带正电荷的粒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矩形 15364"/>
          <p:cNvSpPr/>
          <p:nvPr/>
        </p:nvSpPr>
        <p:spPr>
          <a:xfrm>
            <a:off x="2783520" y="2135160"/>
            <a:ext cx="268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阴离子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带负电的粒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矩形 15365"/>
          <p:cNvSpPr/>
          <p:nvPr/>
        </p:nvSpPr>
        <p:spPr>
          <a:xfrm>
            <a:off x="1081440" y="3071880"/>
            <a:ext cx="336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99"/>
                </a:solidFill>
                <a:uFillTx/>
                <a:latin typeface="Calibri"/>
              </a:rPr>
              <a:t>2.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Calibri"/>
                <a:ea typeface="宋体"/>
              </a:rPr>
              <a:t>离子符号的意义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Calibri"/>
                <a:ea typeface="宋体"/>
              </a:rPr>
              <a:t>(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Calibri"/>
                <a:ea typeface="宋体"/>
              </a:rPr>
              <a:t>考试重点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Calibri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矩形 15366"/>
          <p:cNvSpPr/>
          <p:nvPr/>
        </p:nvSpPr>
        <p:spPr>
          <a:xfrm>
            <a:off x="1202040" y="4727520"/>
            <a:ext cx="7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6" name="组合 15367"/>
          <p:cNvGrpSpPr/>
          <p:nvPr/>
        </p:nvGrpSpPr>
        <p:grpSpPr>
          <a:xfrm>
            <a:off x="1692360" y="3935520"/>
            <a:ext cx="5979240" cy="689040"/>
            <a:chOff x="1692360" y="3935520"/>
            <a:chExt cx="5979240" cy="689040"/>
          </a:xfrm>
        </p:grpSpPr>
        <p:sp>
          <p:nvSpPr>
            <p:cNvPr id="357" name="任意多边形 15368"/>
            <p:cNvSpPr/>
            <p:nvPr/>
          </p:nvSpPr>
          <p:spPr>
            <a:xfrm>
              <a:off x="1692360" y="3976920"/>
              <a:ext cx="1511280" cy="647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6079"/>
                  </a:moveTo>
                  <a:lnTo>
                    <a:pt x="19558" y="0"/>
                  </a:lnTo>
                  <a:lnTo>
                    <a:pt x="19558" y="6079"/>
                  </a:lnTo>
                  <a:lnTo>
                    <a:pt x="12427" y="6079"/>
                  </a:lnTo>
                  <a:cubicBezTo>
                    <a:pt x="5564" y="6079"/>
                    <a:pt x="0" y="8801"/>
                    <a:pt x="0" y="12158"/>
                  </a:cubicBezTo>
                  <a:lnTo>
                    <a:pt x="0" y="21600"/>
                  </a:lnTo>
                  <a:lnTo>
                    <a:pt x="0" y="21600"/>
                  </a:lnTo>
                  <a:lnTo>
                    <a:pt x="0" y="12158"/>
                  </a:lnTo>
                  <a:cubicBezTo>
                    <a:pt x="0" y="8801"/>
                    <a:pt x="5564" y="6079"/>
                    <a:pt x="12427" y="6079"/>
                  </a:cubicBezTo>
                  <a:lnTo>
                    <a:pt x="19558" y="6079"/>
                  </a:lnTo>
                  <a:lnTo>
                    <a:pt x="19558" y="12158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矩形 15369"/>
            <p:cNvSpPr/>
            <p:nvPr/>
          </p:nvSpPr>
          <p:spPr>
            <a:xfrm>
              <a:off x="4264560" y="3935520"/>
              <a:ext cx="340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表示，每个镁离子带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个单位的正电荷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9" name="文本框 15370"/>
          <p:cNvSpPr/>
          <p:nvPr/>
        </p:nvSpPr>
        <p:spPr>
          <a:xfrm>
            <a:off x="755640" y="45831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0" name="组合 15371"/>
          <p:cNvGrpSpPr/>
          <p:nvPr/>
        </p:nvGrpSpPr>
        <p:grpSpPr>
          <a:xfrm>
            <a:off x="900000" y="4943520"/>
            <a:ext cx="5614920" cy="863640"/>
            <a:chOff x="900000" y="4943520"/>
            <a:chExt cx="5614920" cy="863640"/>
          </a:xfrm>
        </p:grpSpPr>
        <p:sp>
          <p:nvSpPr>
            <p:cNvPr id="361" name="文本框 15372"/>
            <p:cNvSpPr/>
            <p:nvPr/>
          </p:nvSpPr>
          <p:spPr>
            <a:xfrm>
              <a:off x="3419280" y="4943520"/>
              <a:ext cx="30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5050"/>
                  </a:solidFill>
                  <a:latin typeface="Calibri"/>
                  <a:ea typeface="宋体"/>
                </a:rPr>
                <a:t>表示</a:t>
              </a:r>
              <a:r>
                <a:rPr b="1" lang="en-US" sz="2800" spc="-1" strike="noStrike">
                  <a:solidFill>
                    <a:srgbClr val="ff5050"/>
                  </a:solidFill>
                  <a:latin typeface="Calibri"/>
                </a:rPr>
                <a:t>2</a:t>
              </a:r>
              <a:r>
                <a:rPr b="1" lang="zh-CN" sz="2800" spc="-1" strike="noStrike">
                  <a:solidFill>
                    <a:srgbClr val="ff5050"/>
                  </a:solidFill>
                  <a:latin typeface="Calibri"/>
                  <a:ea typeface="宋体"/>
                </a:rPr>
                <a:t>个镁离子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下弧形箭头 15373"/>
            <p:cNvSpPr/>
            <p:nvPr/>
          </p:nvSpPr>
          <p:spPr>
            <a:xfrm>
              <a:off x="900000" y="5375160"/>
              <a:ext cx="2664000" cy="432000"/>
            </a:xfrm>
            <a:custGeom>
              <a:avLst/>
              <a:gdLst>
                <a:gd name="textAreaLeft" fmla="*/ 534960 w 2664000"/>
                <a:gd name="textAreaRight" fmla="*/ 1630080 w 2664000"/>
                <a:gd name="textAreaTop" fmla="*/ 57600 h 432000"/>
                <a:gd name="textAreaBottom" fmla="*/ 37440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678" hR="21600" stAng="10800000" swAng="-5400000"/>
                  <a:lnTo>
                    <a:pt x="8878" y="21600"/>
                  </a:lnTo>
                  <a:arcTo wR="8678" hR="21600" stAng="5400000" swAng="-4326535"/>
                  <a:lnTo>
                    <a:pt x="21528" y="2778"/>
                  </a:lnTo>
                  <a:lnTo>
                    <a:pt x="17455" y="0"/>
                  </a:lnTo>
                  <a:lnTo>
                    <a:pt x="13238" y="2778"/>
                  </a:lnTo>
                  <a:lnTo>
                    <a:pt x="17283" y="2778"/>
                  </a:lnTo>
                  <a:arcTo wR="8678" hR="21600" stAng="1073465" swAng="4310619"/>
                  <a:lnTo>
                    <a:pt x="8778" y="21599"/>
                  </a:lnTo>
                  <a:arcTo wR="8678" hR="21600" stAng="5415916" swAng="5384084"/>
                  <a:close/>
                </a:path>
                <a:path fill="darkenLess" w="21600" h="21600">
                  <a:moveTo>
                    <a:pt x="0" y="0"/>
                  </a:moveTo>
                  <a:arcTo wR="8678" hR="21600" stAng="10800000" swAng="-5400000"/>
                  <a:lnTo>
                    <a:pt x="8878" y="21600"/>
                  </a:lnTo>
                  <a:arcTo wR="8678" hR="21600" stAng="5400000" swAng="15916"/>
                  <a:lnTo>
                    <a:pt x="8778" y="21599"/>
                  </a:lnTo>
                  <a:arcTo wR="8678" hR="21600" stAng="5415916" swAng="5384084"/>
                  <a:close/>
                </a:path>
              </a:pathLst>
            </a:cu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3" name="文本框 15374"/>
          <p:cNvSpPr/>
          <p:nvPr/>
        </p:nvSpPr>
        <p:spPr>
          <a:xfrm>
            <a:off x="181080" y="6164640"/>
            <a:ext cx="888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请思考：</a:t>
            </a:r>
            <a:r>
              <a:rPr b="1" lang="zh-CN" sz="2400" spc="-1" strike="noStrike">
                <a:solidFill>
                  <a:srgbClr val="ff3399"/>
                </a:solidFill>
                <a:latin typeface="Calibri"/>
                <a:ea typeface="宋体"/>
              </a:rPr>
              <a:t>怎么表示</a:t>
            </a:r>
            <a:r>
              <a:rPr b="1" lang="zh-CN" sz="2400" spc="-1" strike="noStrike">
                <a:solidFill>
                  <a:srgbClr val="ff3399"/>
                </a:solidFill>
                <a:latin typeface="Calibri"/>
                <a:ea typeface="宋体"/>
              </a:rPr>
              <a:t>3</a:t>
            </a:r>
            <a:r>
              <a:rPr b="1" lang="zh-CN" sz="2400" spc="-1" strike="noStrike">
                <a:solidFill>
                  <a:srgbClr val="ff3399"/>
                </a:solidFill>
                <a:latin typeface="Calibri"/>
                <a:ea typeface="宋体"/>
              </a:rPr>
              <a:t>个铝离子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4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离子和原子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0" y="836640"/>
          <a:ext cx="9144000" cy="5948280"/>
        </p:xfrm>
        <a:graphic>
          <a:graphicData uri="http://schemas.openxmlformats.org/drawingml/2006/table">
            <a:tbl>
              <a:tblPr/>
              <a:tblGrid>
                <a:gridCol w="1762200"/>
                <a:gridCol w="2624040"/>
                <a:gridCol w="2273400"/>
                <a:gridCol w="2484360"/>
              </a:tblGrid>
              <a:tr h="54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微粒种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原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阳离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阴离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3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微粒结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质子数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=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电子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质子数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&gt;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电子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质子数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&lt;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电子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60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微粒电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不显电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显正电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先负电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234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符号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用元素符号表示，如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、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Na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、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用阳离子符号表示，如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Na</a:t>
                      </a:r>
                      <a:r>
                        <a:rPr b="1" lang="zh-CN" sz="28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+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,Ca</a:t>
                      </a:r>
                      <a:r>
                        <a:rPr b="1" lang="zh-CN" sz="28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+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等，数字在前，符号在后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用阴离子符号表示，如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-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数字在前，符号在后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182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联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阳离子               原子                 阴离子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Calibri"/>
                          <a:ea typeface="宋体"/>
                        </a:rPr>
                        <a:t>原子变成离子化学性质改变，物质不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66" name="内容占位符 16450" descr=""/>
          <p:cNvPicPr/>
          <p:nvPr/>
        </p:nvPicPr>
        <p:blipFill>
          <a:blip r:embed="rId1"/>
          <a:stretch/>
        </p:blipFill>
        <p:spPr>
          <a:xfrm>
            <a:off x="3203640" y="5084640"/>
            <a:ext cx="1517760" cy="704880"/>
          </a:xfrm>
          <a:prstGeom prst="rect">
            <a:avLst/>
          </a:prstGeom>
          <a:ln w="0">
            <a:noFill/>
          </a:ln>
        </p:spPr>
      </p:pic>
      <p:pic>
        <p:nvPicPr>
          <p:cNvPr id="367" name="内容占位符 16451" descr=""/>
          <p:cNvPicPr/>
          <p:nvPr/>
        </p:nvPicPr>
        <p:blipFill>
          <a:blip r:embed="rId2"/>
          <a:stretch/>
        </p:blipFill>
        <p:spPr>
          <a:xfrm>
            <a:off x="3132000" y="5877000"/>
            <a:ext cx="1873440" cy="501480"/>
          </a:xfrm>
          <a:prstGeom prst="rect">
            <a:avLst/>
          </a:prstGeom>
          <a:ln w="0">
            <a:noFill/>
          </a:ln>
        </p:spPr>
      </p:pic>
      <p:pic>
        <p:nvPicPr>
          <p:cNvPr id="368" name="内容占位符 16452" descr=""/>
          <p:cNvPicPr/>
          <p:nvPr/>
        </p:nvPicPr>
        <p:blipFill>
          <a:blip r:embed="rId3"/>
          <a:stretch/>
        </p:blipFill>
        <p:spPr>
          <a:xfrm>
            <a:off x="5867280" y="4941720"/>
            <a:ext cx="1441440" cy="779760"/>
          </a:xfrm>
          <a:prstGeom prst="rect">
            <a:avLst/>
          </a:prstGeom>
          <a:ln w="0">
            <a:noFill/>
          </a:ln>
        </p:spPr>
      </p:pic>
      <p:pic>
        <p:nvPicPr>
          <p:cNvPr id="369" name="图片 16453" descr=""/>
          <p:cNvPicPr/>
          <p:nvPr/>
        </p:nvPicPr>
        <p:blipFill>
          <a:blip r:embed="rId4"/>
          <a:stretch/>
        </p:blipFill>
        <p:spPr>
          <a:xfrm>
            <a:off x="5796000" y="5734080"/>
            <a:ext cx="14032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29527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ff5050"/>
                </a:solidFill>
                <a:latin typeface="Arial"/>
              </a:rPr>
              <a:t>知识拓展</a:t>
            </a:r>
            <a:r>
              <a:rPr b="1" lang="en-US" sz="4000" spc="-1" strike="noStrike">
                <a:solidFill>
                  <a:srgbClr val="ff5050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17410"/>
          <p:cNvSpPr/>
          <p:nvPr/>
        </p:nvSpPr>
        <p:spPr>
          <a:xfrm>
            <a:off x="108000" y="1990800"/>
            <a:ext cx="892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Calibri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3300"/>
                </a:solidFill>
                <a:latin typeface="Calibri"/>
                <a:ea typeface="宋体"/>
              </a:rPr>
              <a:t>像氯化钠这种由阴离子和阳离子相互作用而形成的化合物，叫做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宋体"/>
              </a:rPr>
              <a:t>离子化合物</a:t>
            </a:r>
            <a:r>
              <a:rPr b="1" lang="zh-CN" sz="1800" spc="-1" strike="noStrike">
                <a:solidFill>
                  <a:srgbClr val="003300"/>
                </a:solidFill>
                <a:latin typeface="Calibri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宋体"/>
              </a:rPr>
              <a:t>离子化合物</a:t>
            </a:r>
            <a:r>
              <a:rPr b="1" lang="zh-CN" sz="1800" spc="-1" strike="noStrike">
                <a:solidFill>
                  <a:srgbClr val="003300"/>
                </a:solidFill>
                <a:latin typeface="Calibri"/>
                <a:ea typeface="宋体"/>
              </a:rPr>
              <a:t>：</a:t>
            </a:r>
            <a:r>
              <a:rPr b="1" lang="zh-CN" sz="3200" spc="-1" strike="noStrike" u="sng">
                <a:solidFill>
                  <a:srgbClr val="003300"/>
                </a:solidFill>
                <a:uFillTx/>
                <a:latin typeface="Calibri"/>
                <a:ea typeface="宋体"/>
              </a:rPr>
              <a:t>由阴离子和阳离子结合的化合物</a:t>
            </a:r>
            <a:r>
              <a:rPr b="1" lang="zh-CN" sz="3200" spc="-1" strike="noStrike">
                <a:solidFill>
                  <a:srgbClr val="003300"/>
                </a:solidFill>
                <a:latin typeface="Calibri"/>
                <a:ea typeface="宋体"/>
              </a:rPr>
              <a:t>。</a:t>
            </a:r>
            <a:r>
              <a:rPr b="1" lang="zh-CN" sz="3200" spc="-1" strike="noStrike" u="sng">
                <a:solidFill>
                  <a:srgbClr val="003300"/>
                </a:solidFill>
                <a:uFillTx/>
                <a:latin typeface="Calibri"/>
                <a:ea typeface="宋体"/>
              </a:rPr>
              <a:t>      （</a:t>
            </a:r>
            <a:r>
              <a:rPr b="1" lang="zh-CN" sz="3200" spc="-1" strike="noStrike" u="sng">
                <a:solidFill>
                  <a:srgbClr val="ff3399"/>
                </a:solidFill>
                <a:uFillTx/>
                <a:latin typeface="Calibri"/>
                <a:ea typeface="宋体"/>
              </a:rPr>
              <a:t>典型的金属和非金属结合的化合物</a:t>
            </a:r>
            <a:r>
              <a:rPr b="1" lang="zh-CN" sz="3200" spc="-1" strike="noStrike" u="sng">
                <a:solidFill>
                  <a:srgbClr val="003300"/>
                </a:solidFill>
                <a:uFillTx/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文本框 17411"/>
          <p:cNvSpPr/>
          <p:nvPr/>
        </p:nvSpPr>
        <p:spPr>
          <a:xfrm>
            <a:off x="1332000" y="4653000"/>
            <a:ext cx="6335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aCl         Mg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alibri"/>
              </a:rPr>
              <a:t>2         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C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Box 7"/>
          <p:cNvSpPr/>
          <p:nvPr/>
        </p:nvSpPr>
        <p:spPr>
          <a:xfrm>
            <a:off x="4918320" y="234936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微软雅黑"/>
                <a:ea typeface="微软雅黑"/>
              </a:rPr>
              <a:t>谢谢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直接连接符 11"/>
          <p:cNvSpPr/>
          <p:nvPr/>
        </p:nvSpPr>
        <p:spPr>
          <a:xfrm>
            <a:off x="324000" y="2133720"/>
            <a:ext cx="1944360" cy="0"/>
          </a:xfrm>
          <a:prstGeom prst="line">
            <a:avLst/>
          </a:prstGeom>
          <a:ln w="9360">
            <a:solidFill>
              <a:srgbClr val="1553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直接连接符 11"/>
          <p:cNvSpPr/>
          <p:nvPr/>
        </p:nvSpPr>
        <p:spPr>
          <a:xfrm>
            <a:off x="289080" y="4149720"/>
            <a:ext cx="8243640" cy="0"/>
          </a:xfrm>
          <a:prstGeom prst="line">
            <a:avLst/>
          </a:prstGeom>
          <a:ln w="9360">
            <a:solidFill>
              <a:srgbClr val="1553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18436"/>
          <p:cNvSpPr/>
          <p:nvPr/>
        </p:nvSpPr>
        <p:spPr>
          <a:xfrm>
            <a:off x="0" y="4076640"/>
            <a:ext cx="9144000" cy="2781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1553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组合 5121"/>
          <p:cNvGrpSpPr/>
          <p:nvPr/>
        </p:nvGrpSpPr>
        <p:grpSpPr>
          <a:xfrm>
            <a:off x="468360" y="1989000"/>
            <a:ext cx="7772400" cy="3765600"/>
            <a:chOff x="468360" y="1989000"/>
            <a:chExt cx="7772400" cy="3765600"/>
          </a:xfrm>
        </p:grpSpPr>
        <p:grpSp>
          <p:nvGrpSpPr>
            <p:cNvPr id="91" name=""/>
            <p:cNvGrpSpPr/>
            <p:nvPr/>
          </p:nvGrpSpPr>
          <p:grpSpPr>
            <a:xfrm>
              <a:off x="4356360" y="2718000"/>
              <a:ext cx="360" cy="2328480"/>
              <a:chOff x="4356360" y="2718000"/>
              <a:chExt cx="360" cy="2328480"/>
            </a:xfrm>
          </p:grpSpPr>
          <p:sp>
            <p:nvSpPr>
              <p:cNvPr id="92" name="Line 21"/>
              <p:cNvSpPr/>
              <p:nvPr/>
            </p:nvSpPr>
            <p:spPr>
              <a:xfrm flipV="1">
                <a:off x="4356720" y="2718000"/>
                <a:ext cx="0" cy="2328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 rot="10800000">
                <a:off x="4356360" y="2718000"/>
                <a:ext cx="360" cy="2328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4" name="AutoShape 26"/>
            <p:cNvSpPr/>
            <p:nvPr/>
          </p:nvSpPr>
          <p:spPr>
            <a:xfrm>
              <a:off x="468360" y="5052960"/>
              <a:ext cx="7772400" cy="701640"/>
            </a:xfrm>
            <a:prstGeom prst="parallelogram">
              <a:avLst>
                <a:gd name="adj" fmla="val -273982"/>
              </a:avLst>
            </a:prstGeom>
            <a:solidFill>
              <a:srgbClr val="80008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AutoShape 27"/>
            <p:cNvSpPr/>
            <p:nvPr/>
          </p:nvSpPr>
          <p:spPr>
            <a:xfrm>
              <a:off x="468360" y="4032360"/>
              <a:ext cx="7772400" cy="699840"/>
            </a:xfrm>
            <a:prstGeom prst="parallelogram">
              <a:avLst>
                <a:gd name="adj" fmla="val -274687"/>
              </a:avLst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AutoShape 28"/>
            <p:cNvSpPr/>
            <p:nvPr/>
          </p:nvSpPr>
          <p:spPr>
            <a:xfrm>
              <a:off x="468360" y="3009600"/>
              <a:ext cx="7772400" cy="701640"/>
            </a:xfrm>
            <a:prstGeom prst="parallelogram">
              <a:avLst>
                <a:gd name="adj" fmla="val -273982"/>
              </a:avLst>
            </a:prstGeom>
            <a:solidFill>
              <a:srgbClr val="96969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AutoShape 29"/>
            <p:cNvSpPr/>
            <p:nvPr/>
          </p:nvSpPr>
          <p:spPr>
            <a:xfrm>
              <a:off x="468360" y="1989000"/>
              <a:ext cx="7772400" cy="701640"/>
            </a:xfrm>
            <a:prstGeom prst="parallelogram">
              <a:avLst>
                <a:gd name="adj" fmla="val -273982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直接连接符 15"/>
          <p:cNvSpPr/>
          <p:nvPr/>
        </p:nvSpPr>
        <p:spPr>
          <a:xfrm>
            <a:off x="755640" y="1413000"/>
            <a:ext cx="7561440" cy="0"/>
          </a:xfrm>
          <a:prstGeom prst="line">
            <a:avLst/>
          </a:prstGeom>
          <a:ln w="9360">
            <a:solidFill>
              <a:srgbClr val="1553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8"/>
          <p:cNvSpPr/>
          <p:nvPr/>
        </p:nvSpPr>
        <p:spPr>
          <a:xfrm>
            <a:off x="7265520" y="549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55331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0"/>
          <p:cNvSpPr/>
          <p:nvPr/>
        </p:nvSpPr>
        <p:spPr>
          <a:xfrm>
            <a:off x="3787200" y="2060640"/>
            <a:ext cx="18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微软雅黑"/>
                <a:ea typeface="微软雅黑"/>
              </a:rPr>
              <a:t>1.</a:t>
            </a:r>
            <a:r>
              <a:rPr b="1" lang="zh-CN" sz="3200" spc="-1" strike="noStrike">
                <a:solidFill>
                  <a:srgbClr val="ff3399"/>
                </a:solidFill>
                <a:latin typeface="微软雅黑"/>
                <a:ea typeface="微软雅黑"/>
              </a:rPr>
              <a:t>原子的构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21"/>
          <p:cNvSpPr/>
          <p:nvPr/>
        </p:nvSpPr>
        <p:spPr>
          <a:xfrm>
            <a:off x="2437920" y="4073400"/>
            <a:ext cx="376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微软雅黑"/>
                <a:ea typeface="微软雅黑"/>
              </a:rPr>
              <a:t>3.</a:t>
            </a:r>
            <a:r>
              <a:rPr b="1" lang="zh-CN" sz="2800" spc="-1" strike="noStrike">
                <a:solidFill>
                  <a:srgbClr val="00cc00"/>
                </a:solidFill>
                <a:latin typeface="微软雅黑"/>
                <a:ea typeface="微软雅黑"/>
              </a:rPr>
              <a:t>原子核外排布以及原子结构示意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22"/>
          <p:cNvSpPr/>
          <p:nvPr/>
        </p:nvSpPr>
        <p:spPr>
          <a:xfrm>
            <a:off x="3322080" y="5130720"/>
            <a:ext cx="270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离子及离子结构示意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0"/>
          <p:cNvSpPr/>
          <p:nvPr/>
        </p:nvSpPr>
        <p:spPr>
          <a:xfrm>
            <a:off x="3725640" y="3070080"/>
            <a:ext cx="20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微软雅黑"/>
                <a:ea typeface="微软雅黑"/>
              </a:rPr>
              <a:t>2.</a:t>
            </a:r>
            <a:r>
              <a:rPr b="1" lang="zh-CN" sz="3200" spc="-1" strike="noStrike">
                <a:solidFill>
                  <a:srgbClr val="0033cc"/>
                </a:solidFill>
                <a:latin typeface="微软雅黑"/>
                <a:ea typeface="微软雅黑"/>
              </a:rPr>
              <a:t>相对原子质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文本框 6145"/>
          <p:cNvSpPr/>
          <p:nvPr/>
        </p:nvSpPr>
        <p:spPr>
          <a:xfrm>
            <a:off x="1023840" y="1562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6146"/>
          <p:cNvSpPr/>
          <p:nvPr/>
        </p:nvSpPr>
        <p:spPr>
          <a:xfrm>
            <a:off x="250920" y="260280"/>
            <a:ext cx="8318520" cy="576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、原子核外电子的排布（又叫分层运动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6147"/>
          <p:cNvSpPr/>
          <p:nvPr/>
        </p:nvSpPr>
        <p:spPr>
          <a:xfrm>
            <a:off x="2484360" y="1413000"/>
            <a:ext cx="703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电子能量的高低与离核远、近的关系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6148"/>
          <p:cNvSpPr/>
          <p:nvPr/>
        </p:nvSpPr>
        <p:spPr>
          <a:xfrm>
            <a:off x="2340000" y="2708280"/>
            <a:ext cx="228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电子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离核远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量高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文本框 6149"/>
          <p:cNvSpPr/>
          <p:nvPr/>
        </p:nvSpPr>
        <p:spPr>
          <a:xfrm>
            <a:off x="3781440" y="2492280"/>
            <a:ext cx="540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一   二      三       四     五     六     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K     L       M        N      O      P      Q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924000" y="4075200"/>
            <a:ext cx="4537440" cy="1440"/>
            <a:chOff x="3924000" y="4075200"/>
            <a:chExt cx="4537440" cy="1440"/>
          </a:xfrm>
        </p:grpSpPr>
        <p:sp>
          <p:nvSpPr>
            <p:cNvPr id="110" name="直接连接符 6150"/>
            <p:cNvSpPr/>
            <p:nvPr/>
          </p:nvSpPr>
          <p:spPr>
            <a:xfrm flipV="1">
              <a:off x="3924360" y="4075200"/>
              <a:ext cx="4537080" cy="1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 rot="10800000">
              <a:off x="3924000" y="4075200"/>
              <a:ext cx="4537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851280" y="5013360"/>
            <a:ext cx="4606920" cy="360"/>
            <a:chOff x="3851280" y="5013360"/>
            <a:chExt cx="4606920" cy="360"/>
          </a:xfrm>
        </p:grpSpPr>
        <p:sp>
          <p:nvSpPr>
            <p:cNvPr id="113" name="直接连接符 6151"/>
            <p:cNvSpPr/>
            <p:nvPr/>
          </p:nvSpPr>
          <p:spPr>
            <a:xfrm>
              <a:off x="3851280" y="5013360"/>
              <a:ext cx="46069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3851280" y="5013360"/>
              <a:ext cx="4606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文本框 6152"/>
          <p:cNvSpPr/>
          <p:nvPr/>
        </p:nvSpPr>
        <p:spPr>
          <a:xfrm>
            <a:off x="3924360" y="450864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华文中宋"/>
              </a:rPr>
              <a:t>低                                        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文本框 6153"/>
          <p:cNvSpPr/>
          <p:nvPr/>
        </p:nvSpPr>
        <p:spPr>
          <a:xfrm>
            <a:off x="3759120" y="4299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6154"/>
          <p:cNvSpPr/>
          <p:nvPr/>
        </p:nvSpPr>
        <p:spPr>
          <a:xfrm>
            <a:off x="3924360" y="3500280"/>
            <a:ext cx="489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华文中宋"/>
              </a:rPr>
              <a:t>近                                      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图片 6155" descr="pic_34072"/>
          <p:cNvPicPr/>
          <p:nvPr/>
        </p:nvPicPr>
        <p:blipFill>
          <a:blip r:embed="rId1"/>
          <a:stretch/>
        </p:blipFill>
        <p:spPr>
          <a:xfrm>
            <a:off x="0" y="1197000"/>
            <a:ext cx="2319480" cy="224964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6156" descr="dzc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3860640"/>
            <a:ext cx="2374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对象 7169" descr=""/>
          <p:cNvPicPr/>
          <p:nvPr/>
        </p:nvPicPr>
        <p:blipFill>
          <a:blip r:embed="rId1"/>
          <a:stretch/>
        </p:blipFill>
        <p:spPr>
          <a:xfrm>
            <a:off x="36360" y="152280"/>
            <a:ext cx="9074160" cy="4343400"/>
          </a:xfrm>
          <a:prstGeom prst="rect">
            <a:avLst/>
          </a:prstGeom>
          <a:ln w="0">
            <a:noFill/>
          </a:ln>
        </p:spPr>
      </p:pic>
      <p:sp>
        <p:nvSpPr>
          <p:cNvPr id="121" name="矩形 7170"/>
          <p:cNvSpPr/>
          <p:nvPr/>
        </p:nvSpPr>
        <p:spPr>
          <a:xfrm>
            <a:off x="2409480" y="5518080"/>
            <a:ext cx="450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一层最多容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电子，第二层最多容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电子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7171"/>
          <p:cNvSpPr/>
          <p:nvPr/>
        </p:nvSpPr>
        <p:spPr>
          <a:xfrm>
            <a:off x="1056960" y="6165720"/>
            <a:ext cx="27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外层不超过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电子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7172"/>
          <p:cNvSpPr/>
          <p:nvPr/>
        </p:nvSpPr>
        <p:spPr>
          <a:xfrm>
            <a:off x="250920" y="4508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电子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满能量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较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电子层，然后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能量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稍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电子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52280" y="5257800"/>
          <a:ext cx="8458200" cy="1600200"/>
        </p:xfrm>
        <a:graphic>
          <a:graphicData uri="http://schemas.openxmlformats.org/drawingml/2006/table">
            <a:tbl>
              <a:tblPr/>
              <a:tblGrid>
                <a:gridCol w="2370240"/>
                <a:gridCol w="2919240"/>
                <a:gridCol w="3168720"/>
              </a:tblGrid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宋体"/>
                        </a:rPr>
                        <a:t>元素种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宋体"/>
                        </a:rPr>
                        <a:t>最外层电子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宋体"/>
                        </a:rPr>
                        <a:t>元素的化学性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e8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4133fd"/>
                          </a:solidFill>
                          <a:latin typeface="Calibri"/>
                          <a:ea typeface="宋体"/>
                        </a:rPr>
                        <a:t>稀有气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ffe8"/>
                    </a:solidFill>
                  </a:tcPr>
                </a:tc>
              </a:tr>
            </a:tbl>
          </a:graphicData>
        </a:graphic>
      </p:graphicFrame>
      <p:pic>
        <p:nvPicPr>
          <p:cNvPr id="125" name="对象 8207" descr=""/>
          <p:cNvPicPr/>
          <p:nvPr/>
        </p:nvPicPr>
        <p:blipFill>
          <a:blip r:embed="rId1"/>
          <a:stretch/>
        </p:blipFill>
        <p:spPr>
          <a:xfrm>
            <a:off x="34920" y="0"/>
            <a:ext cx="9109080" cy="518148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8208"/>
          <p:cNvSpPr/>
          <p:nvPr/>
        </p:nvSpPr>
        <p:spPr>
          <a:xfrm>
            <a:off x="2514600" y="60958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333d"/>
                </a:solidFill>
                <a:latin typeface="Times New Roman"/>
                <a:ea typeface="华文新魏"/>
              </a:rPr>
              <a:t>8</a:t>
            </a:r>
            <a:r>
              <a:rPr b="1" lang="zh-CN" sz="3200" spc="-1" strike="noStrike">
                <a:solidFill>
                  <a:srgbClr val="fd333d"/>
                </a:solidFill>
                <a:latin typeface="Times New Roman"/>
                <a:ea typeface="华文新魏"/>
              </a:rPr>
              <a:t>个（</a:t>
            </a:r>
            <a:r>
              <a:rPr b="1" lang="en-US" sz="3200" spc="-1" strike="noStrike">
                <a:solidFill>
                  <a:srgbClr val="fd333d"/>
                </a:solidFill>
                <a:latin typeface="Times New Roman"/>
                <a:ea typeface="华文新魏"/>
              </a:rPr>
              <a:t>He</a:t>
            </a:r>
            <a:r>
              <a:rPr b="1" lang="zh-CN" sz="3200" spc="-1" strike="noStrike">
                <a:solidFill>
                  <a:srgbClr val="fd333d"/>
                </a:solidFill>
                <a:latin typeface="Times New Roman"/>
                <a:ea typeface="华文新魏"/>
              </a:rPr>
              <a:t>为</a:t>
            </a:r>
            <a:r>
              <a:rPr b="1" lang="en-US" sz="3200" spc="-1" strike="noStrike">
                <a:solidFill>
                  <a:srgbClr val="fd333d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d333d"/>
                </a:solidFill>
                <a:latin typeface="Times New Roman"/>
                <a:ea typeface="华文新魏"/>
              </a:rPr>
              <a:t>个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8209"/>
          <p:cNvSpPr/>
          <p:nvPr/>
        </p:nvSpPr>
        <p:spPr>
          <a:xfrm>
            <a:off x="6482520" y="6084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d333d"/>
                </a:solidFill>
                <a:latin typeface="Times New Roman"/>
                <a:ea typeface="华文新魏"/>
              </a:rPr>
              <a:t>比较稳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0" y="5257800"/>
          <a:ext cx="9144000" cy="1600200"/>
        </p:xfrm>
        <a:graphic>
          <a:graphicData uri="http://schemas.openxmlformats.org/drawingml/2006/table">
            <a:tbl>
              <a:tblPr/>
              <a:tblGrid>
                <a:gridCol w="2819520"/>
                <a:gridCol w="3124080"/>
                <a:gridCol w="32004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宋体"/>
                        </a:rPr>
                        <a:t>元素的种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宋体"/>
                        </a:rPr>
                        <a:t>最外层电子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宋体"/>
                        </a:rPr>
                        <a:t>元素的化学性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e8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d33fd"/>
                          </a:solidFill>
                          <a:latin typeface="Calibri"/>
                          <a:ea typeface="宋体"/>
                        </a:rPr>
                        <a:t>金      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ffe8"/>
                    </a:solidFill>
                  </a:tcPr>
                </a:tc>
              </a:tr>
            </a:tbl>
          </a:graphicData>
        </a:graphic>
      </p:graphicFrame>
      <p:pic>
        <p:nvPicPr>
          <p:cNvPr id="129" name="对象 923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130" name="文本框 9232"/>
          <p:cNvSpPr/>
          <p:nvPr/>
        </p:nvSpPr>
        <p:spPr>
          <a:xfrm>
            <a:off x="3276720" y="60958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333d"/>
                </a:solidFill>
                <a:latin typeface="Times New Roman"/>
                <a:ea typeface="华文新魏"/>
              </a:rPr>
              <a:t>一般少于</a:t>
            </a:r>
            <a:r>
              <a:rPr b="1" lang="en-US" sz="3200" spc="-1" strike="noStrike">
                <a:solidFill>
                  <a:srgbClr val="fd333d"/>
                </a:solidFill>
                <a:latin typeface="Times New Roman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fd333d"/>
                </a:solidFill>
                <a:latin typeface="Times New Roman"/>
                <a:ea typeface="华文新魏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文本框 9233"/>
          <p:cNvSpPr/>
          <p:nvPr/>
        </p:nvSpPr>
        <p:spPr>
          <a:xfrm>
            <a:off x="6920640" y="6076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d333d"/>
                </a:solidFill>
                <a:latin typeface="Times New Roman"/>
                <a:ea typeface="华文新魏"/>
              </a:rPr>
              <a:t>易失电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对象 1024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2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0" y="5181480"/>
          <a:ext cx="9144000" cy="1600200"/>
        </p:xfrm>
        <a:graphic>
          <a:graphicData uri="http://schemas.openxmlformats.org/drawingml/2006/table">
            <a:tbl>
              <a:tblPr/>
              <a:tblGrid>
                <a:gridCol w="2438280"/>
                <a:gridCol w="3429000"/>
                <a:gridCol w="327672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宋体"/>
                        </a:rPr>
                        <a:t>元素种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宋体"/>
                        </a:rPr>
                        <a:t>最外层电子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宋体"/>
                        </a:rPr>
                        <a:t>元素的化学性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e8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d33fd"/>
                          </a:solidFill>
                          <a:latin typeface="Calibri"/>
                          <a:ea typeface="宋体"/>
                        </a:rPr>
                        <a:t>非金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f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ffe8"/>
                    </a:solidFill>
                  </a:tcPr>
                </a:tc>
              </a:tr>
            </a:tbl>
          </a:graphicData>
        </a:graphic>
      </p:graphicFrame>
      <p:sp>
        <p:nvSpPr>
          <p:cNvPr id="134" name="文本框 10256"/>
          <p:cNvSpPr/>
          <p:nvPr/>
        </p:nvSpPr>
        <p:spPr>
          <a:xfrm>
            <a:off x="2362320" y="61722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333d"/>
                </a:solidFill>
                <a:latin typeface="Times New Roman"/>
                <a:ea typeface="华文新魏"/>
              </a:rPr>
              <a:t>一般大于或等于</a:t>
            </a:r>
            <a:r>
              <a:rPr b="1" lang="en-US" sz="3200" spc="-1" strike="noStrike">
                <a:solidFill>
                  <a:srgbClr val="fd333d"/>
                </a:solidFill>
                <a:latin typeface="Times New Roman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fd333d"/>
                </a:solidFill>
                <a:latin typeface="Times New Roman"/>
                <a:ea typeface="华文新魏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文本框 10257"/>
          <p:cNvSpPr/>
          <p:nvPr/>
        </p:nvSpPr>
        <p:spPr>
          <a:xfrm>
            <a:off x="6828480" y="6095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d333d"/>
                </a:solidFill>
                <a:latin typeface="Times New Roman"/>
                <a:ea typeface="华文新魏"/>
              </a:rPr>
              <a:t>易得电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文本框 11265"/>
          <p:cNvSpPr/>
          <p:nvPr/>
        </p:nvSpPr>
        <p:spPr>
          <a:xfrm>
            <a:off x="1311120" y="224784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03200" y="1174680"/>
          <a:ext cx="8346960" cy="4114800"/>
        </p:xfrm>
        <a:graphic>
          <a:graphicData uri="http://schemas.openxmlformats.org/drawingml/2006/table">
            <a:tbl>
              <a:tblPr/>
              <a:tblGrid>
                <a:gridCol w="1871640"/>
                <a:gridCol w="2106720"/>
                <a:gridCol w="2341440"/>
                <a:gridCol w="20271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华文中宋"/>
                          <a:ea typeface="华康俪金黑W8"/>
                        </a:rPr>
                        <a:t>元素分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华文中宋"/>
                          <a:ea typeface="华康俪金黑W8"/>
                        </a:rPr>
                        <a:t>最外层电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华文中宋"/>
                          <a:ea typeface="华康俪金黑W8"/>
                        </a:rPr>
                        <a:t>结构的稳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华文中宋"/>
                          <a:ea typeface="华康俪金黑W8"/>
                        </a:rPr>
                        <a:t>化学性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文本框 11293"/>
          <p:cNvSpPr/>
          <p:nvPr/>
        </p:nvSpPr>
        <p:spPr>
          <a:xfrm>
            <a:off x="468360" y="1989000"/>
            <a:ext cx="17510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康俪金黑W8"/>
                <a:ea typeface="华康俪金黑W8"/>
              </a:rPr>
              <a:t>稀有气体 元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康俪金黑W8"/>
                <a:ea typeface="华康俪金黑W8"/>
              </a:rPr>
              <a:t>非金属     元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康俪金黑W8"/>
                <a:ea typeface="华康俪金黑W8"/>
              </a:rPr>
              <a:t>金属         元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文本框 11294"/>
          <p:cNvSpPr/>
          <p:nvPr/>
        </p:nvSpPr>
        <p:spPr>
          <a:xfrm>
            <a:off x="2195640" y="4292640"/>
            <a:ext cx="223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康俪金黑W8"/>
                <a:ea typeface="华康俪金黑W8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康俪金黑W8"/>
                <a:ea typeface="华康俪金黑W8"/>
              </a:rPr>
              <a:t>一般少于         </a:t>
            </a:r>
            <a:r>
              <a:rPr b="1" lang="zh-CN" sz="2800" spc="-1" strike="noStrike">
                <a:solidFill>
                  <a:srgbClr val="000000"/>
                </a:solidFill>
                <a:latin typeface="华康俪金黑W8"/>
                <a:ea typeface="华康俪金黑W8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华康俪金黑W8"/>
                <a:ea typeface="华康俪金黑W8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华康俪金黑W8"/>
                <a:ea typeface="华康俪金黑W8"/>
              </a:rPr>
              <a:t>个</a:t>
            </a:r>
            <a:r>
              <a:rPr b="1" lang="zh-CN" sz="2800" spc="-1" strike="noStrike">
                <a:solidFill>
                  <a:srgbClr val="000000"/>
                </a:solidFill>
                <a:latin typeface="华康俪金黑W8"/>
                <a:ea typeface="华康俪金黑W8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文本框 11295"/>
          <p:cNvSpPr/>
          <p:nvPr/>
        </p:nvSpPr>
        <p:spPr>
          <a:xfrm>
            <a:off x="4716360" y="21337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康俪金黑W8"/>
              </a:rPr>
              <a:t>稳定结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文本框 11296"/>
          <p:cNvSpPr/>
          <p:nvPr/>
        </p:nvSpPr>
        <p:spPr>
          <a:xfrm>
            <a:off x="6804000" y="19890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康俪金黑W8"/>
              </a:rPr>
              <a:t>一般不参加化学反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文本框 11297"/>
          <p:cNvSpPr/>
          <p:nvPr/>
        </p:nvSpPr>
        <p:spPr>
          <a:xfrm>
            <a:off x="250920" y="26028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康俪金黑W8"/>
                <a:ea typeface="华康俪金黑W8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康俪金黑W8"/>
                <a:ea typeface="华康俪金黑W8"/>
              </a:rPr>
              <a:t>、元素分类、原子结构与元素化学性质的关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文本框 11298"/>
          <p:cNvSpPr/>
          <p:nvPr/>
        </p:nvSpPr>
        <p:spPr>
          <a:xfrm>
            <a:off x="324000" y="6165720"/>
            <a:ext cx="848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康俪金黑W8"/>
                <a:ea typeface="华康俪金黑W8"/>
              </a:rPr>
              <a:t>元素的化学性质主要决定于原子的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华康俪金黑W8"/>
                <a:ea typeface="华康俪金黑W8"/>
              </a:rPr>
              <a:t>               </a:t>
            </a:r>
            <a:r>
              <a:rPr b="1" lang="zh-CN" sz="2800" spc="-1" strike="noStrike">
                <a:solidFill>
                  <a:srgbClr val="0000ff"/>
                </a:solidFill>
                <a:latin typeface="华康俪金黑W8"/>
                <a:ea typeface="华康俪金黑W8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文本框 11299"/>
          <p:cNvSpPr/>
          <p:nvPr/>
        </p:nvSpPr>
        <p:spPr>
          <a:xfrm>
            <a:off x="395280" y="551808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康俪金黑W8"/>
                <a:ea typeface="华康俪金黑W8"/>
              </a:rPr>
              <a:t>元素的种类由原子的核电荷数</a:t>
            </a:r>
            <a:r>
              <a:rPr b="1" lang="en-US" sz="2800" spc="-1" strike="noStrike">
                <a:solidFill>
                  <a:srgbClr val="0000ff"/>
                </a:solidFill>
                <a:latin typeface="华康俪金黑W8"/>
                <a:ea typeface="华康俪金黑W8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华康俪金黑W8"/>
                <a:ea typeface="华康俪金黑W8"/>
              </a:rPr>
              <a:t>质子数</a:t>
            </a:r>
            <a:r>
              <a:rPr b="1" lang="en-US" sz="2800" spc="-1" strike="noStrike">
                <a:solidFill>
                  <a:srgbClr val="0000ff"/>
                </a:solidFill>
                <a:latin typeface="华康俪金黑W8"/>
                <a:ea typeface="华康俪金黑W8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华康俪金黑W8"/>
                <a:ea typeface="华康俪金黑W8"/>
              </a:rPr>
              <a:t>决定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文本框 11300"/>
          <p:cNvSpPr/>
          <p:nvPr/>
        </p:nvSpPr>
        <p:spPr>
          <a:xfrm>
            <a:off x="6439320" y="6021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康俪金黑W8"/>
              </a:rPr>
              <a:t>最外层电子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文本框 11301"/>
          <p:cNvSpPr/>
          <p:nvPr/>
        </p:nvSpPr>
        <p:spPr>
          <a:xfrm>
            <a:off x="4500720" y="327024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康俪金黑W8"/>
              </a:rPr>
              <a:t>不稳定结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文本框 11302"/>
          <p:cNvSpPr/>
          <p:nvPr/>
        </p:nvSpPr>
        <p:spPr>
          <a:xfrm>
            <a:off x="4572000" y="44370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康俪金黑W8"/>
              </a:rPr>
              <a:t>不稳定结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文本框 11303"/>
          <p:cNvSpPr/>
          <p:nvPr/>
        </p:nvSpPr>
        <p:spPr>
          <a:xfrm>
            <a:off x="6588000" y="1916280"/>
            <a:ext cx="187164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文本框 11304"/>
          <p:cNvSpPr/>
          <p:nvPr/>
        </p:nvSpPr>
        <p:spPr>
          <a:xfrm>
            <a:off x="6732720" y="4149720"/>
            <a:ext cx="198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康俪金黑W8"/>
              </a:rPr>
              <a:t>易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康俪金黑W8"/>
              </a:rPr>
              <a:t>失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康俪金黑W8"/>
              </a:rPr>
              <a:t>去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康俪金黑W8"/>
              </a:rPr>
              <a:t>最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康俪金黑W8"/>
              </a:rPr>
              <a:t>层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康俪金黑W8"/>
              </a:rPr>
              <a:t>电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文本框 11305"/>
          <p:cNvSpPr/>
          <p:nvPr/>
        </p:nvSpPr>
        <p:spPr>
          <a:xfrm>
            <a:off x="6804000" y="32130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康俪金黑W8"/>
              </a:rPr>
              <a:t>易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康俪金黑W8"/>
              </a:rPr>
              <a:t>得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康俪金黑W8"/>
              </a:rPr>
              <a:t>到电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文本框 11306"/>
          <p:cNvSpPr/>
          <p:nvPr/>
        </p:nvSpPr>
        <p:spPr>
          <a:xfrm>
            <a:off x="2378880" y="1989000"/>
            <a:ext cx="187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华康俪金黑W8"/>
                <a:ea typeface="华康俪金黑W8"/>
              </a:rPr>
              <a:t>8</a:t>
            </a:r>
            <a:r>
              <a:rPr b="1" lang="zh-CN" sz="2800" spc="-1" strike="noStrike">
                <a:solidFill>
                  <a:srgbClr val="ff3300"/>
                </a:solidFill>
                <a:latin typeface="华康俪金黑W8"/>
                <a:ea typeface="华康俪金黑W8"/>
              </a:rPr>
              <a:t>个</a:t>
            </a:r>
            <a:r>
              <a:rPr b="1" lang="zh-CN" sz="2800" spc="-1" strike="noStrike">
                <a:solidFill>
                  <a:srgbClr val="000000"/>
                </a:solidFill>
                <a:latin typeface="华康俪金黑W8"/>
                <a:ea typeface="华康俪金黑W8"/>
              </a:rPr>
              <a:t>电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康俪金黑W8"/>
                <a:ea typeface="华康俪金黑W8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华康俪金黑W8"/>
                <a:ea typeface="华康俪金黑W8"/>
              </a:rPr>
              <a:t>He</a:t>
            </a:r>
            <a:r>
              <a:rPr b="1" lang="zh-CN" sz="2800" spc="-1" strike="noStrike">
                <a:solidFill>
                  <a:srgbClr val="000000"/>
                </a:solidFill>
                <a:latin typeface="华康俪金黑W8"/>
                <a:ea typeface="华康俪金黑W8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华康俪金黑W8"/>
                <a:ea typeface="华康俪金黑W8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康俪金黑W8"/>
                <a:ea typeface="华康俪金黑W8"/>
              </a:rPr>
              <a:t>个</a:t>
            </a:r>
            <a:r>
              <a:rPr b="1" lang="zh-CN" sz="2800" spc="-1" strike="noStrike">
                <a:solidFill>
                  <a:srgbClr val="000000"/>
                </a:solidFill>
                <a:latin typeface="华康俪金黑W8"/>
                <a:ea typeface="华康俪金黑W8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文本框 11307"/>
          <p:cNvSpPr/>
          <p:nvPr/>
        </p:nvSpPr>
        <p:spPr>
          <a:xfrm>
            <a:off x="2340000" y="2997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康俪金黑W8"/>
                <a:ea typeface="华康俪金黑W8"/>
              </a:rPr>
              <a:t>一般多于或等于</a:t>
            </a:r>
            <a:r>
              <a:rPr b="1" lang="en-US" sz="2800" spc="-1" strike="noStrike">
                <a:solidFill>
                  <a:srgbClr val="ff3300"/>
                </a:solidFill>
                <a:latin typeface="华康俪金黑W8"/>
                <a:ea typeface="华康俪金黑W8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华康俪金黑W8"/>
                <a:ea typeface="华康俪金黑W8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组合 12289"/>
          <p:cNvGrpSpPr/>
          <p:nvPr/>
        </p:nvGrpSpPr>
        <p:grpSpPr>
          <a:xfrm>
            <a:off x="533520" y="2362320"/>
            <a:ext cx="1916280" cy="1828080"/>
            <a:chOff x="533520" y="2362320"/>
            <a:chExt cx="1916280" cy="1828080"/>
          </a:xfrm>
        </p:grpSpPr>
        <p:sp>
          <p:nvSpPr>
            <p:cNvPr id="154" name="任意多边形 12290"/>
            <p:cNvSpPr/>
            <p:nvPr/>
          </p:nvSpPr>
          <p:spPr>
            <a:xfrm>
              <a:off x="618120" y="2625840"/>
              <a:ext cx="935640" cy="459720"/>
            </a:xfrm>
            <a:custGeom>
              <a:avLst/>
              <a:gdLst/>
              <a:ahLst/>
              <a:rect l="l" t="t" r="r" b="b"/>
              <a:pathLst>
                <a:path fill="none" w="21600" h="12859">
                  <a:moveTo>
                    <a:pt x="18120" y="0"/>
                  </a:moveTo>
                  <a:cubicBezTo>
                    <a:pt x="20322" y="3381"/>
                    <a:pt x="21600" y="7419"/>
                    <a:pt x="21600" y="11756"/>
                  </a:cubicBezTo>
                  <a:cubicBezTo>
                    <a:pt x="21600" y="12128"/>
                    <a:pt x="21591" y="12497"/>
                    <a:pt x="21572" y="12860"/>
                  </a:cubicBezTo>
                </a:path>
                <a:path stroke="0" w="21600" h="12859">
                  <a:moveTo>
                    <a:pt x="21571" y="12859"/>
                  </a:moveTo>
                  <a:cubicBezTo>
                    <a:pt x="21542" y="11646"/>
                    <a:pt x="21526" y="10378"/>
                    <a:pt x="21526" y="9076"/>
                  </a:cubicBezTo>
                  <a:cubicBezTo>
                    <a:pt x="21526" y="-135"/>
                    <a:pt x="22305" y="-7602"/>
                    <a:pt x="23266" y="-7602"/>
                  </a:cubicBezTo>
                  <a:cubicBezTo>
                    <a:pt x="24227" y="-7602"/>
                    <a:pt x="25006" y="-135"/>
                    <a:pt x="25006" y="9076"/>
                  </a:cubicBezTo>
                  <a:cubicBezTo>
                    <a:pt x="25006" y="9451"/>
                    <a:pt x="25005" y="9823"/>
                    <a:pt x="25002" y="10187"/>
                  </a:cubicBezTo>
                  <a:lnTo>
                    <a:pt x="1812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文本框 12291"/>
            <p:cNvSpPr/>
            <p:nvPr/>
          </p:nvSpPr>
          <p:spPr>
            <a:xfrm>
              <a:off x="1407960" y="3017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14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6" name="组合 12292"/>
            <p:cNvGrpSpPr/>
            <p:nvPr/>
          </p:nvGrpSpPr>
          <p:grpSpPr>
            <a:xfrm>
              <a:off x="533520" y="2362320"/>
              <a:ext cx="1916280" cy="1828080"/>
              <a:chOff x="533520" y="2362320"/>
              <a:chExt cx="1916280" cy="1828080"/>
            </a:xfrm>
          </p:grpSpPr>
          <p:sp>
            <p:nvSpPr>
              <p:cNvPr id="157" name="任意多边形 12293"/>
              <p:cNvSpPr/>
              <p:nvPr/>
            </p:nvSpPr>
            <p:spPr>
              <a:xfrm>
                <a:off x="533520" y="3419640"/>
                <a:ext cx="1021680" cy="642240"/>
              </a:xfrm>
              <a:custGeom>
                <a:avLst/>
                <a:gdLst/>
                <a:ahLst/>
                <a:rect l="l" t="t" r="r" b="b"/>
                <a:pathLst>
                  <a:path fill="none" w="21489" h="13083">
                    <a:moveTo>
                      <a:pt x="21488" y="2189"/>
                    </a:moveTo>
                    <a:cubicBezTo>
                      <a:pt x="21078" y="6266"/>
                      <a:pt x="19537" y="10001"/>
                      <a:pt x="17187" y="13084"/>
                    </a:cubicBezTo>
                  </a:path>
                  <a:path stroke="0" w="21489" h="13083">
                    <a:moveTo>
                      <a:pt x="17186" y="13083"/>
                    </a:moveTo>
                    <a:cubicBezTo>
                      <a:pt x="17186" y="13088"/>
                      <a:pt x="17186" y="13093"/>
                      <a:pt x="17186" y="13098"/>
                    </a:cubicBezTo>
                    <a:cubicBezTo>
                      <a:pt x="17186" y="13113"/>
                      <a:pt x="17186" y="13127"/>
                      <a:pt x="17186" y="13141"/>
                    </a:cubicBezTo>
                    <a:lnTo>
                      <a:pt x="21488" y="2189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文本框 12294"/>
              <p:cNvSpPr/>
              <p:nvPr/>
            </p:nvSpPr>
            <p:spPr>
              <a:xfrm>
                <a:off x="2090880" y="30193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10014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文本框 12295"/>
              <p:cNvSpPr/>
              <p:nvPr/>
            </p:nvSpPr>
            <p:spPr>
              <a:xfrm>
                <a:off x="1751400" y="30193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10014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60" name="组合 12296"/>
              <p:cNvGrpSpPr/>
              <p:nvPr/>
            </p:nvGrpSpPr>
            <p:grpSpPr>
              <a:xfrm>
                <a:off x="788760" y="2362320"/>
                <a:ext cx="1446480" cy="1828080"/>
                <a:chOff x="788760" y="2362320"/>
                <a:chExt cx="1446480" cy="1828080"/>
              </a:xfrm>
            </p:grpSpPr>
            <p:sp>
              <p:nvSpPr>
                <p:cNvPr id="161" name="任意多边形 12297"/>
                <p:cNvSpPr/>
                <p:nvPr/>
              </p:nvSpPr>
              <p:spPr>
                <a:xfrm>
                  <a:off x="958680" y="2450520"/>
                  <a:ext cx="936720" cy="6033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16871">
                      <a:moveTo>
                        <a:pt x="16633" y="0"/>
                      </a:moveTo>
                      <a:cubicBezTo>
                        <a:pt x="19735" y="3739"/>
                        <a:pt x="21600" y="8542"/>
                        <a:pt x="21600" y="13780"/>
                      </a:cubicBezTo>
                      <a:cubicBezTo>
                        <a:pt x="21600" y="14833"/>
                        <a:pt x="21525" y="15868"/>
                        <a:pt x="21380" y="16874"/>
                      </a:cubicBezTo>
                    </a:path>
                    <a:path stroke="0" w="21600" h="16871">
                      <a:moveTo>
                        <a:pt x="21377" y="16871"/>
                      </a:moveTo>
                      <a:cubicBezTo>
                        <a:pt x="21375" y="16574"/>
                        <a:pt x="21374" y="16274"/>
                        <a:pt x="21374" y="15973"/>
                      </a:cubicBezTo>
                      <a:cubicBezTo>
                        <a:pt x="21374" y="6203"/>
                        <a:pt x="22486" y="-1717"/>
                        <a:pt x="23857" y="-1717"/>
                      </a:cubicBezTo>
                      <a:cubicBezTo>
                        <a:pt x="25228" y="-1717"/>
                        <a:pt x="26340" y="6203"/>
                        <a:pt x="26340" y="15973"/>
                      </a:cubicBezTo>
                      <a:cubicBezTo>
                        <a:pt x="26340" y="16497"/>
                        <a:pt x="26337" y="17016"/>
                        <a:pt x="26331" y="17524"/>
                      </a:cubicBezTo>
                      <a:lnTo>
                        <a:pt x="16633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2" name="任意多边形 12298"/>
                <p:cNvSpPr/>
                <p:nvPr/>
              </p:nvSpPr>
              <p:spPr>
                <a:xfrm>
                  <a:off x="873720" y="3419640"/>
                  <a:ext cx="1014120" cy="686160"/>
                </a:xfrm>
                <a:custGeom>
                  <a:avLst/>
                  <a:gdLst/>
                  <a:ahLst/>
                  <a:rect l="l" t="t" r="r" b="b"/>
                  <a:pathLst>
                    <a:path fill="none" w="21489" h="13977">
                      <a:moveTo>
                        <a:pt x="21488" y="2189"/>
                      </a:moveTo>
                      <a:cubicBezTo>
                        <a:pt x="21037" y="6667"/>
                        <a:pt x="19223" y="10734"/>
                        <a:pt x="16467" y="13977"/>
                      </a:cubicBezTo>
                    </a:path>
                    <a:path stroke="0" w="21489" h="13977">
                      <a:moveTo>
                        <a:pt x="16468" y="13977"/>
                      </a:moveTo>
                      <a:cubicBezTo>
                        <a:pt x="16468" y="13985"/>
                        <a:pt x="16468" y="13992"/>
                        <a:pt x="16468" y="14000"/>
                      </a:cubicBezTo>
                      <a:cubicBezTo>
                        <a:pt x="16468" y="14015"/>
                        <a:pt x="16468" y="14029"/>
                        <a:pt x="16468" y="14043"/>
                      </a:cubicBezTo>
                      <a:lnTo>
                        <a:pt x="21488" y="218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3" name="任意多边形 12299"/>
                <p:cNvSpPr/>
                <p:nvPr/>
              </p:nvSpPr>
              <p:spPr>
                <a:xfrm>
                  <a:off x="1299240" y="2362320"/>
                  <a:ext cx="936000" cy="6753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18915">
                      <a:moveTo>
                        <a:pt x="14702" y="0"/>
                      </a:moveTo>
                      <a:cubicBezTo>
                        <a:pt x="18945" y="3944"/>
                        <a:pt x="21600" y="9574"/>
                        <a:pt x="21600" y="15824"/>
                      </a:cubicBezTo>
                      <a:cubicBezTo>
                        <a:pt x="21600" y="16877"/>
                        <a:pt x="21525" y="17912"/>
                        <a:pt x="21380" y="18918"/>
                      </a:cubicBezTo>
                    </a:path>
                    <a:path stroke="0" w="21600" h="18915">
                      <a:moveTo>
                        <a:pt x="21377" y="18915"/>
                      </a:moveTo>
                      <a:cubicBezTo>
                        <a:pt x="21399" y="8680"/>
                        <a:pt x="22935" y="420"/>
                        <a:pt x="24826" y="420"/>
                      </a:cubicBezTo>
                      <a:cubicBezTo>
                        <a:pt x="26731" y="420"/>
                        <a:pt x="28275" y="8798"/>
                        <a:pt x="28275" y="19132"/>
                      </a:cubicBezTo>
                      <a:cubicBezTo>
                        <a:pt x="28275" y="19848"/>
                        <a:pt x="28268" y="20555"/>
                        <a:pt x="28253" y="21245"/>
                      </a:cubicBezTo>
                      <a:lnTo>
                        <a:pt x="14702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4" name="任意多边形 12300"/>
                <p:cNvSpPr/>
                <p:nvPr/>
              </p:nvSpPr>
              <p:spPr>
                <a:xfrm>
                  <a:off x="1214280" y="3419640"/>
                  <a:ext cx="1014480" cy="770760"/>
                </a:xfrm>
                <a:custGeom>
                  <a:avLst/>
                  <a:gdLst/>
                  <a:ahLst/>
                  <a:rect l="l" t="t" r="r" b="b"/>
                  <a:pathLst>
                    <a:path fill="none" w="21489" h="15679">
                      <a:moveTo>
                        <a:pt x="21488" y="2189"/>
                      </a:moveTo>
                      <a:cubicBezTo>
                        <a:pt x="20954" y="7488"/>
                        <a:pt x="18510" y="12216"/>
                        <a:pt x="14856" y="15679"/>
                      </a:cubicBezTo>
                    </a:path>
                    <a:path stroke="0" w="21489" h="15679">
                      <a:moveTo>
                        <a:pt x="14856" y="15678"/>
                      </a:moveTo>
                      <a:cubicBezTo>
                        <a:pt x="14856" y="15689"/>
                        <a:pt x="14856" y="15699"/>
                        <a:pt x="14856" y="15710"/>
                      </a:cubicBezTo>
                      <a:cubicBezTo>
                        <a:pt x="14856" y="15725"/>
                        <a:pt x="14856" y="15739"/>
                        <a:pt x="14856" y="15753"/>
                      </a:cubicBezTo>
                      <a:lnTo>
                        <a:pt x="21488" y="218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5" name="椭圆 12301"/>
                <p:cNvSpPr/>
                <p:nvPr/>
              </p:nvSpPr>
              <p:spPr>
                <a:xfrm>
                  <a:off x="788760" y="2979000"/>
                  <a:ext cx="595800" cy="61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10014"/>
                      </a:solidFill>
                      <a:latin typeface="Times New Roman"/>
                    </a:rPr>
                    <a:t>+11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66" name="组合 12302"/>
          <p:cNvGrpSpPr/>
          <p:nvPr/>
        </p:nvGrpSpPr>
        <p:grpSpPr>
          <a:xfrm>
            <a:off x="2743200" y="2895480"/>
            <a:ext cx="2362320" cy="686160"/>
            <a:chOff x="2743200" y="2895480"/>
            <a:chExt cx="2362320" cy="686160"/>
          </a:xfrm>
        </p:grpSpPr>
        <p:grpSp>
          <p:nvGrpSpPr>
            <p:cNvPr id="167" name=""/>
            <p:cNvGrpSpPr/>
            <p:nvPr/>
          </p:nvGrpSpPr>
          <p:grpSpPr>
            <a:xfrm>
              <a:off x="2743200" y="3581280"/>
              <a:ext cx="2209680" cy="360"/>
              <a:chOff x="2743200" y="3581280"/>
              <a:chExt cx="2209680" cy="360"/>
            </a:xfrm>
          </p:grpSpPr>
          <p:sp>
            <p:nvSpPr>
              <p:cNvPr id="168" name="直接连接符 12303"/>
              <p:cNvSpPr/>
              <p:nvPr/>
            </p:nvSpPr>
            <p:spPr>
              <a:xfrm>
                <a:off x="2743200" y="3581280"/>
                <a:ext cx="22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"/>
              <p:cNvSpPr txBox="1"/>
              <p:nvPr/>
            </p:nvSpPr>
            <p:spPr>
              <a:xfrm>
                <a:off x="2743200" y="3581280"/>
                <a:ext cx="2209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0" name="文本框 12304"/>
            <p:cNvSpPr/>
            <p:nvPr/>
          </p:nvSpPr>
          <p:spPr>
            <a:xfrm>
              <a:off x="2819520" y="28954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失去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个电子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1" name="组合 12305"/>
          <p:cNvGrpSpPr/>
          <p:nvPr/>
        </p:nvGrpSpPr>
        <p:grpSpPr>
          <a:xfrm>
            <a:off x="5334120" y="2590920"/>
            <a:ext cx="1509840" cy="1599120"/>
            <a:chOff x="5334120" y="2590920"/>
            <a:chExt cx="1509840" cy="1599120"/>
          </a:xfrm>
        </p:grpSpPr>
        <p:grpSp>
          <p:nvGrpSpPr>
            <p:cNvPr id="172" name="组合 12306"/>
            <p:cNvGrpSpPr/>
            <p:nvPr/>
          </p:nvGrpSpPr>
          <p:grpSpPr>
            <a:xfrm>
              <a:off x="5334120" y="3016440"/>
              <a:ext cx="970560" cy="1038960"/>
              <a:chOff x="5334120" y="3016440"/>
              <a:chExt cx="970560" cy="1038960"/>
            </a:xfrm>
          </p:grpSpPr>
          <p:sp>
            <p:nvSpPr>
              <p:cNvPr id="173" name="椭圆 12307"/>
              <p:cNvSpPr/>
              <p:nvPr/>
            </p:nvSpPr>
            <p:spPr>
              <a:xfrm>
                <a:off x="5496120" y="3016440"/>
                <a:ext cx="649800" cy="680760"/>
              </a:xfrm>
              <a:prstGeom prst="ellipse">
                <a:avLst/>
              </a:prstGeom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10014"/>
                    </a:solidFill>
                    <a:latin typeface="Times New Roman"/>
                  </a:rPr>
                  <a:t>+11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任意多边形 12308"/>
              <p:cNvSpPr/>
              <p:nvPr/>
            </p:nvSpPr>
            <p:spPr>
              <a:xfrm>
                <a:off x="5334120" y="3526920"/>
                <a:ext cx="970560" cy="528480"/>
              </a:xfrm>
              <a:custGeom>
                <a:avLst/>
                <a:gdLst/>
                <a:ahLst/>
                <a:rect l="l" t="t" r="r" b="b"/>
                <a:pathLst>
                  <a:path fill="none" w="21528" h="11142">
                    <a:moveTo>
                      <a:pt x="21527" y="1762"/>
                    </a:moveTo>
                    <a:cubicBezTo>
                      <a:pt x="21251" y="5180"/>
                      <a:pt x="20182" y="8367"/>
                      <a:pt x="18506" y="11145"/>
                    </a:cubicBezTo>
                  </a:path>
                  <a:path stroke="0" w="21528" h="11142">
                    <a:moveTo>
                      <a:pt x="18504" y="11142"/>
                    </a:moveTo>
                    <a:cubicBezTo>
                      <a:pt x="18504" y="11150"/>
                      <a:pt x="18504" y="11157"/>
                      <a:pt x="18504" y="11164"/>
                    </a:cubicBezTo>
                    <a:lnTo>
                      <a:pt x="21527" y="1762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5" name="组合 12309"/>
            <p:cNvGrpSpPr/>
            <p:nvPr/>
          </p:nvGrpSpPr>
          <p:grpSpPr>
            <a:xfrm>
              <a:off x="5415120" y="2590920"/>
              <a:ext cx="1428840" cy="1599120"/>
              <a:chOff x="5415120" y="2590920"/>
              <a:chExt cx="1428840" cy="1599120"/>
            </a:xfrm>
          </p:grpSpPr>
          <p:sp>
            <p:nvSpPr>
              <p:cNvPr id="176" name="任意多边形 12310"/>
              <p:cNvSpPr/>
              <p:nvPr/>
            </p:nvSpPr>
            <p:spPr>
              <a:xfrm>
                <a:off x="5415120" y="2760840"/>
                <a:ext cx="892800" cy="443520"/>
              </a:xfrm>
              <a:custGeom>
                <a:avLst/>
                <a:gdLst/>
                <a:ahLst/>
                <a:rect l="l" t="t" r="r" b="b"/>
                <a:pathLst>
                  <a:path fill="none" w="21600" h="12859">
                    <a:moveTo>
                      <a:pt x="18120" y="0"/>
                    </a:moveTo>
                    <a:cubicBezTo>
                      <a:pt x="20322" y="3381"/>
                      <a:pt x="21600" y="7419"/>
                      <a:pt x="21600" y="11756"/>
                    </a:cubicBezTo>
                    <a:cubicBezTo>
                      <a:pt x="21600" y="12128"/>
                      <a:pt x="21591" y="12497"/>
                      <a:pt x="21572" y="12860"/>
                    </a:cubicBezTo>
                  </a:path>
                  <a:path stroke="0" w="21600" h="12859">
                    <a:moveTo>
                      <a:pt x="21571" y="12859"/>
                    </a:moveTo>
                    <a:cubicBezTo>
                      <a:pt x="21542" y="11646"/>
                      <a:pt x="21526" y="10378"/>
                      <a:pt x="21526" y="9076"/>
                    </a:cubicBezTo>
                    <a:cubicBezTo>
                      <a:pt x="21526" y="-135"/>
                      <a:pt x="22305" y="-7602"/>
                      <a:pt x="23266" y="-7602"/>
                    </a:cubicBezTo>
                    <a:cubicBezTo>
                      <a:pt x="24227" y="-7602"/>
                      <a:pt x="25006" y="-135"/>
                      <a:pt x="25006" y="9076"/>
                    </a:cubicBezTo>
                    <a:cubicBezTo>
                      <a:pt x="25006" y="9451"/>
                      <a:pt x="25005" y="9823"/>
                      <a:pt x="25002" y="10187"/>
                    </a:cubicBezTo>
                    <a:lnTo>
                      <a:pt x="1812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7" name="组合 12311"/>
              <p:cNvGrpSpPr/>
              <p:nvPr/>
            </p:nvGrpSpPr>
            <p:grpSpPr>
              <a:xfrm>
                <a:off x="5658480" y="2590920"/>
                <a:ext cx="1185480" cy="1599120"/>
                <a:chOff x="5658480" y="2590920"/>
                <a:chExt cx="1185480" cy="1599120"/>
              </a:xfrm>
            </p:grpSpPr>
            <p:sp>
              <p:nvSpPr>
                <p:cNvPr id="178" name="文本框 12312"/>
                <p:cNvSpPr/>
                <p:nvPr/>
              </p:nvSpPr>
              <p:spPr>
                <a:xfrm>
                  <a:off x="6161760" y="313452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10014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9" name="文本框 12313"/>
                <p:cNvSpPr/>
                <p:nvPr/>
              </p:nvSpPr>
              <p:spPr>
                <a:xfrm>
                  <a:off x="6485040" y="313452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10014"/>
                      </a:solidFill>
                      <a:latin typeface="Times New Roman"/>
                    </a:rPr>
                    <a:t>8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0" name="任意多边形 12314"/>
                <p:cNvSpPr/>
                <p:nvPr/>
              </p:nvSpPr>
              <p:spPr>
                <a:xfrm>
                  <a:off x="5739480" y="2590920"/>
                  <a:ext cx="892440" cy="583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16871">
                      <a:moveTo>
                        <a:pt x="16633" y="0"/>
                      </a:moveTo>
                      <a:cubicBezTo>
                        <a:pt x="19735" y="3739"/>
                        <a:pt x="21600" y="8542"/>
                        <a:pt x="21600" y="13780"/>
                      </a:cubicBezTo>
                      <a:cubicBezTo>
                        <a:pt x="21600" y="14833"/>
                        <a:pt x="21525" y="15868"/>
                        <a:pt x="21380" y="16874"/>
                      </a:cubicBezTo>
                    </a:path>
                    <a:path stroke="0" w="21600" h="16871">
                      <a:moveTo>
                        <a:pt x="21377" y="16871"/>
                      </a:moveTo>
                      <a:cubicBezTo>
                        <a:pt x="21375" y="16574"/>
                        <a:pt x="21374" y="16274"/>
                        <a:pt x="21374" y="15973"/>
                      </a:cubicBezTo>
                      <a:cubicBezTo>
                        <a:pt x="21374" y="6203"/>
                        <a:pt x="22486" y="-1717"/>
                        <a:pt x="23857" y="-1717"/>
                      </a:cubicBezTo>
                      <a:cubicBezTo>
                        <a:pt x="25228" y="-1717"/>
                        <a:pt x="26340" y="6203"/>
                        <a:pt x="26340" y="15973"/>
                      </a:cubicBezTo>
                      <a:cubicBezTo>
                        <a:pt x="26340" y="16497"/>
                        <a:pt x="26337" y="17016"/>
                        <a:pt x="26331" y="17524"/>
                      </a:cubicBezTo>
                      <a:lnTo>
                        <a:pt x="16633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1" name="任意多边形 12315"/>
                <p:cNvSpPr/>
                <p:nvPr/>
              </p:nvSpPr>
              <p:spPr>
                <a:xfrm>
                  <a:off x="5658480" y="3526920"/>
                  <a:ext cx="966960" cy="663120"/>
                </a:xfrm>
                <a:custGeom>
                  <a:avLst/>
                  <a:gdLst/>
                  <a:ahLst/>
                  <a:rect l="l" t="t" r="r" b="b"/>
                  <a:pathLst>
                    <a:path fill="none" w="21489" h="13977">
                      <a:moveTo>
                        <a:pt x="21488" y="2189"/>
                      </a:moveTo>
                      <a:cubicBezTo>
                        <a:pt x="21037" y="6667"/>
                        <a:pt x="19223" y="10734"/>
                        <a:pt x="16467" y="13977"/>
                      </a:cubicBezTo>
                    </a:path>
                    <a:path stroke="0" w="21489" h="13977">
                      <a:moveTo>
                        <a:pt x="16468" y="13977"/>
                      </a:moveTo>
                      <a:cubicBezTo>
                        <a:pt x="16468" y="13985"/>
                        <a:pt x="16468" y="13992"/>
                        <a:pt x="16468" y="14000"/>
                      </a:cubicBezTo>
                      <a:cubicBezTo>
                        <a:pt x="16468" y="14015"/>
                        <a:pt x="16468" y="14029"/>
                        <a:pt x="16468" y="14043"/>
                      </a:cubicBezTo>
                      <a:lnTo>
                        <a:pt x="21488" y="218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82" name="矩形 12316"/>
          <p:cNvSpPr/>
          <p:nvPr/>
        </p:nvSpPr>
        <p:spPr>
          <a:xfrm>
            <a:off x="570600" y="4052880"/>
            <a:ext cx="18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01d3"/>
                </a:solidFill>
                <a:latin typeface="Times New Roman"/>
                <a:ea typeface="宋体"/>
              </a:rPr>
              <a:t>钠原子（</a:t>
            </a:r>
            <a:r>
              <a:rPr b="1" lang="en-US" sz="2800" spc="-1" strike="noStrike">
                <a:solidFill>
                  <a:srgbClr val="3801d3"/>
                </a:solidFill>
                <a:latin typeface="Times New Roman"/>
              </a:rPr>
              <a:t>Na</a:t>
            </a:r>
            <a:r>
              <a:rPr b="1" lang="zh-CN" sz="2800" spc="-1" strike="noStrike">
                <a:solidFill>
                  <a:srgbClr val="3801d3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12317"/>
          <p:cNvSpPr/>
          <p:nvPr/>
        </p:nvSpPr>
        <p:spPr>
          <a:xfrm>
            <a:off x="4620960" y="4129200"/>
            <a:ext cx="21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01d3"/>
                </a:solidFill>
                <a:latin typeface="Times New Roman"/>
                <a:ea typeface="宋体"/>
              </a:rPr>
              <a:t>钠离子（ </a:t>
            </a:r>
            <a:r>
              <a:rPr b="1" lang="en-US" sz="2800" spc="-1" strike="noStrike">
                <a:solidFill>
                  <a:srgbClr val="3801d3"/>
                </a:solidFill>
                <a:latin typeface="Times New Roman"/>
              </a:rPr>
              <a:t>Na</a:t>
            </a:r>
            <a:r>
              <a:rPr b="1" lang="en-US" sz="2800" spc="-1" strike="noStrike" baseline="30000">
                <a:solidFill>
                  <a:srgbClr val="3801d3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3801d3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801d3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组合 12318"/>
          <p:cNvGrpSpPr/>
          <p:nvPr/>
        </p:nvGrpSpPr>
        <p:grpSpPr>
          <a:xfrm>
            <a:off x="457200" y="4572000"/>
            <a:ext cx="2053440" cy="1751400"/>
            <a:chOff x="457200" y="4572000"/>
            <a:chExt cx="2053440" cy="1751400"/>
          </a:xfrm>
        </p:grpSpPr>
        <p:sp>
          <p:nvSpPr>
            <p:cNvPr id="185" name="任意多边形 12319"/>
            <p:cNvSpPr/>
            <p:nvPr/>
          </p:nvSpPr>
          <p:spPr>
            <a:xfrm>
              <a:off x="549000" y="4825080"/>
              <a:ext cx="1011240" cy="439560"/>
            </a:xfrm>
            <a:custGeom>
              <a:avLst/>
              <a:gdLst/>
              <a:ahLst/>
              <a:rect l="l" t="t" r="r" b="b"/>
              <a:pathLst>
                <a:path fill="none" w="21600" h="12859">
                  <a:moveTo>
                    <a:pt x="18120" y="0"/>
                  </a:moveTo>
                  <a:cubicBezTo>
                    <a:pt x="20322" y="3381"/>
                    <a:pt x="21600" y="7419"/>
                    <a:pt x="21600" y="11756"/>
                  </a:cubicBezTo>
                  <a:cubicBezTo>
                    <a:pt x="21600" y="12128"/>
                    <a:pt x="21591" y="12497"/>
                    <a:pt x="21572" y="12860"/>
                  </a:cubicBezTo>
                </a:path>
                <a:path stroke="0" w="21600" h="12859">
                  <a:moveTo>
                    <a:pt x="21571" y="12859"/>
                  </a:moveTo>
                  <a:cubicBezTo>
                    <a:pt x="21542" y="11646"/>
                    <a:pt x="21526" y="10378"/>
                    <a:pt x="21526" y="9076"/>
                  </a:cubicBezTo>
                  <a:cubicBezTo>
                    <a:pt x="21526" y="-135"/>
                    <a:pt x="22305" y="-7602"/>
                    <a:pt x="23266" y="-7602"/>
                  </a:cubicBezTo>
                  <a:cubicBezTo>
                    <a:pt x="24227" y="-7602"/>
                    <a:pt x="25006" y="-135"/>
                    <a:pt x="25006" y="9076"/>
                  </a:cubicBezTo>
                  <a:cubicBezTo>
                    <a:pt x="25006" y="9451"/>
                    <a:pt x="25005" y="9823"/>
                    <a:pt x="25002" y="10187"/>
                  </a:cubicBezTo>
                  <a:lnTo>
                    <a:pt x="1812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文本框 12320"/>
            <p:cNvSpPr/>
            <p:nvPr/>
          </p:nvSpPr>
          <p:spPr>
            <a:xfrm>
              <a:off x="1416600" y="5188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14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7" name="组合 12321"/>
            <p:cNvGrpSpPr/>
            <p:nvPr/>
          </p:nvGrpSpPr>
          <p:grpSpPr>
            <a:xfrm>
              <a:off x="457200" y="4572000"/>
              <a:ext cx="2053440" cy="1751400"/>
              <a:chOff x="457200" y="4572000"/>
              <a:chExt cx="2053440" cy="1751400"/>
            </a:xfrm>
          </p:grpSpPr>
          <p:sp>
            <p:nvSpPr>
              <p:cNvPr id="188" name="任意多边形 12322"/>
              <p:cNvSpPr/>
              <p:nvPr/>
            </p:nvSpPr>
            <p:spPr>
              <a:xfrm>
                <a:off x="457200" y="5585040"/>
                <a:ext cx="1103040" cy="615240"/>
              </a:xfrm>
              <a:custGeom>
                <a:avLst/>
                <a:gdLst/>
                <a:ahLst/>
                <a:rect l="l" t="t" r="r" b="b"/>
                <a:pathLst>
                  <a:path fill="none" w="21489" h="13083">
                    <a:moveTo>
                      <a:pt x="21488" y="2189"/>
                    </a:moveTo>
                    <a:cubicBezTo>
                      <a:pt x="21078" y="6266"/>
                      <a:pt x="19537" y="10001"/>
                      <a:pt x="17187" y="13084"/>
                    </a:cubicBezTo>
                  </a:path>
                  <a:path stroke="0" w="21489" h="13083">
                    <a:moveTo>
                      <a:pt x="17186" y="13083"/>
                    </a:moveTo>
                    <a:cubicBezTo>
                      <a:pt x="17186" y="13088"/>
                      <a:pt x="17186" y="13093"/>
                      <a:pt x="17186" y="13098"/>
                    </a:cubicBezTo>
                    <a:cubicBezTo>
                      <a:pt x="17186" y="13113"/>
                      <a:pt x="17186" y="13127"/>
                      <a:pt x="17186" y="13141"/>
                    </a:cubicBezTo>
                    <a:lnTo>
                      <a:pt x="21488" y="2189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文本框 12323"/>
              <p:cNvSpPr/>
              <p:nvPr/>
            </p:nvSpPr>
            <p:spPr>
              <a:xfrm>
                <a:off x="2151720" y="51886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10014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文本框 12324"/>
              <p:cNvSpPr/>
              <p:nvPr/>
            </p:nvSpPr>
            <p:spPr>
              <a:xfrm>
                <a:off x="1787760" y="51886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10014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91" name="组合 12325"/>
              <p:cNvGrpSpPr/>
              <p:nvPr/>
            </p:nvGrpSpPr>
            <p:grpSpPr>
              <a:xfrm>
                <a:off x="732960" y="4572000"/>
                <a:ext cx="1562400" cy="1751400"/>
                <a:chOff x="732960" y="4572000"/>
                <a:chExt cx="1562400" cy="1751400"/>
              </a:xfrm>
            </p:grpSpPr>
            <p:sp>
              <p:nvSpPr>
                <p:cNvPr id="192" name="任意多边形 12326"/>
                <p:cNvSpPr/>
                <p:nvPr/>
              </p:nvSpPr>
              <p:spPr>
                <a:xfrm>
                  <a:off x="916560" y="4656240"/>
                  <a:ext cx="1011240" cy="578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16871">
                      <a:moveTo>
                        <a:pt x="16633" y="0"/>
                      </a:moveTo>
                      <a:cubicBezTo>
                        <a:pt x="19735" y="3739"/>
                        <a:pt x="21600" y="8542"/>
                        <a:pt x="21600" y="13780"/>
                      </a:cubicBezTo>
                      <a:cubicBezTo>
                        <a:pt x="21600" y="14833"/>
                        <a:pt x="21525" y="15868"/>
                        <a:pt x="21380" y="16874"/>
                      </a:cubicBezTo>
                    </a:path>
                    <a:path stroke="0" w="21600" h="16871">
                      <a:moveTo>
                        <a:pt x="21377" y="16871"/>
                      </a:moveTo>
                      <a:cubicBezTo>
                        <a:pt x="21375" y="16574"/>
                        <a:pt x="21374" y="16274"/>
                        <a:pt x="21374" y="15973"/>
                      </a:cubicBezTo>
                      <a:cubicBezTo>
                        <a:pt x="21374" y="6203"/>
                        <a:pt x="22486" y="-1717"/>
                        <a:pt x="23857" y="-1717"/>
                      </a:cubicBezTo>
                      <a:cubicBezTo>
                        <a:pt x="25228" y="-1717"/>
                        <a:pt x="26340" y="6203"/>
                        <a:pt x="26340" y="15973"/>
                      </a:cubicBezTo>
                      <a:cubicBezTo>
                        <a:pt x="26340" y="16497"/>
                        <a:pt x="26337" y="17016"/>
                        <a:pt x="26331" y="17524"/>
                      </a:cubicBezTo>
                      <a:lnTo>
                        <a:pt x="16633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" name="任意多边形 12327"/>
                <p:cNvSpPr/>
                <p:nvPr/>
              </p:nvSpPr>
              <p:spPr>
                <a:xfrm>
                  <a:off x="824760" y="5585040"/>
                  <a:ext cx="1095120" cy="657360"/>
                </a:xfrm>
                <a:custGeom>
                  <a:avLst/>
                  <a:gdLst/>
                  <a:ahLst/>
                  <a:rect l="l" t="t" r="r" b="b"/>
                  <a:pathLst>
                    <a:path fill="none" w="21489" h="13977">
                      <a:moveTo>
                        <a:pt x="21488" y="2189"/>
                      </a:moveTo>
                      <a:cubicBezTo>
                        <a:pt x="21037" y="6667"/>
                        <a:pt x="19223" y="10734"/>
                        <a:pt x="16467" y="13977"/>
                      </a:cubicBezTo>
                    </a:path>
                    <a:path stroke="0" w="21489" h="13977">
                      <a:moveTo>
                        <a:pt x="16468" y="13977"/>
                      </a:moveTo>
                      <a:cubicBezTo>
                        <a:pt x="16468" y="13985"/>
                        <a:pt x="16468" y="13992"/>
                        <a:pt x="16468" y="14000"/>
                      </a:cubicBezTo>
                      <a:cubicBezTo>
                        <a:pt x="16468" y="14015"/>
                        <a:pt x="16468" y="14029"/>
                        <a:pt x="16468" y="14043"/>
                      </a:cubicBezTo>
                      <a:lnTo>
                        <a:pt x="21488" y="218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" name="任意多边形 12328"/>
                <p:cNvSpPr/>
                <p:nvPr/>
              </p:nvSpPr>
              <p:spPr>
                <a:xfrm>
                  <a:off x="1284480" y="4572000"/>
                  <a:ext cx="101088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18915">
                      <a:moveTo>
                        <a:pt x="14702" y="0"/>
                      </a:moveTo>
                      <a:cubicBezTo>
                        <a:pt x="18945" y="3944"/>
                        <a:pt x="21600" y="9574"/>
                        <a:pt x="21600" y="15824"/>
                      </a:cubicBezTo>
                      <a:cubicBezTo>
                        <a:pt x="21600" y="16877"/>
                        <a:pt x="21525" y="17912"/>
                        <a:pt x="21380" y="18918"/>
                      </a:cubicBezTo>
                    </a:path>
                    <a:path stroke="0" w="21600" h="18915">
                      <a:moveTo>
                        <a:pt x="21377" y="18915"/>
                      </a:moveTo>
                      <a:cubicBezTo>
                        <a:pt x="21399" y="8680"/>
                        <a:pt x="22935" y="420"/>
                        <a:pt x="24826" y="420"/>
                      </a:cubicBezTo>
                      <a:cubicBezTo>
                        <a:pt x="26731" y="420"/>
                        <a:pt x="28275" y="8798"/>
                        <a:pt x="28275" y="19132"/>
                      </a:cubicBezTo>
                      <a:cubicBezTo>
                        <a:pt x="28275" y="19848"/>
                        <a:pt x="28268" y="20555"/>
                        <a:pt x="28253" y="21245"/>
                      </a:cubicBezTo>
                      <a:lnTo>
                        <a:pt x="14702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" name="任意多边形 12329"/>
                <p:cNvSpPr/>
                <p:nvPr/>
              </p:nvSpPr>
              <p:spPr>
                <a:xfrm>
                  <a:off x="1192320" y="5585040"/>
                  <a:ext cx="1095480" cy="738360"/>
                </a:xfrm>
                <a:custGeom>
                  <a:avLst/>
                  <a:gdLst/>
                  <a:ahLst/>
                  <a:rect l="l" t="t" r="r" b="b"/>
                  <a:pathLst>
                    <a:path fill="none" w="21489" h="15679">
                      <a:moveTo>
                        <a:pt x="21488" y="2189"/>
                      </a:moveTo>
                      <a:cubicBezTo>
                        <a:pt x="20954" y="7488"/>
                        <a:pt x="18510" y="12216"/>
                        <a:pt x="14856" y="15679"/>
                      </a:cubicBezTo>
                    </a:path>
                    <a:path stroke="0" w="21489" h="15679">
                      <a:moveTo>
                        <a:pt x="14856" y="15678"/>
                      </a:moveTo>
                      <a:cubicBezTo>
                        <a:pt x="14856" y="15689"/>
                        <a:pt x="14856" y="15699"/>
                        <a:pt x="14856" y="15710"/>
                      </a:cubicBezTo>
                      <a:cubicBezTo>
                        <a:pt x="14856" y="15725"/>
                        <a:pt x="14856" y="15739"/>
                        <a:pt x="14856" y="15753"/>
                      </a:cubicBezTo>
                      <a:lnTo>
                        <a:pt x="21488" y="218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" name="椭圆 12330"/>
                <p:cNvSpPr/>
                <p:nvPr/>
              </p:nvSpPr>
              <p:spPr>
                <a:xfrm>
                  <a:off x="732960" y="5162760"/>
                  <a:ext cx="64332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10014"/>
                      </a:solidFill>
                      <a:latin typeface="Times New Roman"/>
                    </a:rPr>
                    <a:t>+17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97" name="组合 12331"/>
          <p:cNvGrpSpPr/>
          <p:nvPr/>
        </p:nvGrpSpPr>
        <p:grpSpPr>
          <a:xfrm>
            <a:off x="2743200" y="5043600"/>
            <a:ext cx="2286000" cy="671760"/>
            <a:chOff x="2743200" y="5043600"/>
            <a:chExt cx="2286000" cy="671760"/>
          </a:xfrm>
        </p:grpSpPr>
        <p:sp>
          <p:nvSpPr>
            <p:cNvPr id="198" name="矩形 12332"/>
            <p:cNvSpPr/>
            <p:nvPr/>
          </p:nvSpPr>
          <p:spPr>
            <a:xfrm>
              <a:off x="2743200" y="50436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得到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个电子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743200" y="5715000"/>
              <a:ext cx="1905120" cy="360"/>
              <a:chOff x="2743200" y="5715000"/>
              <a:chExt cx="1905120" cy="360"/>
            </a:xfrm>
          </p:grpSpPr>
          <p:sp>
            <p:nvSpPr>
              <p:cNvPr id="200" name="直接连接符 12333"/>
              <p:cNvSpPr/>
              <p:nvPr/>
            </p:nvSpPr>
            <p:spPr>
              <a:xfrm>
                <a:off x="2743200" y="5715000"/>
                <a:ext cx="1905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"/>
              <p:cNvSpPr txBox="1"/>
              <p:nvPr/>
            </p:nvSpPr>
            <p:spPr>
              <a:xfrm>
                <a:off x="2743200" y="5715000"/>
                <a:ext cx="1905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02" name="组合 12334"/>
          <p:cNvGrpSpPr/>
          <p:nvPr/>
        </p:nvGrpSpPr>
        <p:grpSpPr>
          <a:xfrm>
            <a:off x="5130720" y="4648320"/>
            <a:ext cx="2030400" cy="1827720"/>
            <a:chOff x="5130720" y="4648320"/>
            <a:chExt cx="2030400" cy="1827720"/>
          </a:xfrm>
        </p:grpSpPr>
        <p:sp>
          <p:nvSpPr>
            <p:cNvPr id="203" name="任意多边形 12335"/>
            <p:cNvSpPr/>
            <p:nvPr/>
          </p:nvSpPr>
          <p:spPr>
            <a:xfrm>
              <a:off x="5221440" y="4912560"/>
              <a:ext cx="998640" cy="458640"/>
            </a:xfrm>
            <a:custGeom>
              <a:avLst/>
              <a:gdLst/>
              <a:ahLst/>
              <a:rect l="l" t="t" r="r" b="b"/>
              <a:pathLst>
                <a:path fill="none" w="21600" h="12859">
                  <a:moveTo>
                    <a:pt x="18120" y="0"/>
                  </a:moveTo>
                  <a:cubicBezTo>
                    <a:pt x="20322" y="3381"/>
                    <a:pt x="21600" y="7419"/>
                    <a:pt x="21600" y="11756"/>
                  </a:cubicBezTo>
                  <a:cubicBezTo>
                    <a:pt x="21600" y="12128"/>
                    <a:pt x="21591" y="12497"/>
                    <a:pt x="21572" y="12860"/>
                  </a:cubicBezTo>
                </a:path>
                <a:path stroke="0" w="21600" h="12859">
                  <a:moveTo>
                    <a:pt x="21571" y="12859"/>
                  </a:moveTo>
                  <a:cubicBezTo>
                    <a:pt x="21542" y="11646"/>
                    <a:pt x="21526" y="10378"/>
                    <a:pt x="21526" y="9076"/>
                  </a:cubicBezTo>
                  <a:cubicBezTo>
                    <a:pt x="21526" y="-135"/>
                    <a:pt x="22305" y="-7602"/>
                    <a:pt x="23266" y="-7602"/>
                  </a:cubicBezTo>
                  <a:cubicBezTo>
                    <a:pt x="24227" y="-7602"/>
                    <a:pt x="25006" y="-135"/>
                    <a:pt x="25006" y="9076"/>
                  </a:cubicBezTo>
                  <a:cubicBezTo>
                    <a:pt x="25006" y="9451"/>
                    <a:pt x="25005" y="9823"/>
                    <a:pt x="25002" y="10187"/>
                  </a:cubicBezTo>
                  <a:lnTo>
                    <a:pt x="1812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文本框 12336"/>
            <p:cNvSpPr/>
            <p:nvPr/>
          </p:nvSpPr>
          <p:spPr>
            <a:xfrm>
              <a:off x="6075000" y="5305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14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5" name="组合 12337"/>
            <p:cNvGrpSpPr/>
            <p:nvPr/>
          </p:nvGrpSpPr>
          <p:grpSpPr>
            <a:xfrm>
              <a:off x="5130720" y="4648320"/>
              <a:ext cx="2030400" cy="1827720"/>
              <a:chOff x="5130720" y="4648320"/>
              <a:chExt cx="2030400" cy="1827720"/>
            </a:xfrm>
          </p:grpSpPr>
          <p:sp>
            <p:nvSpPr>
              <p:cNvPr id="206" name="任意多边形 12338"/>
              <p:cNvSpPr/>
              <p:nvPr/>
            </p:nvSpPr>
            <p:spPr>
              <a:xfrm>
                <a:off x="5130720" y="5705640"/>
                <a:ext cx="1089360" cy="642240"/>
              </a:xfrm>
              <a:custGeom>
                <a:avLst/>
                <a:gdLst/>
                <a:ahLst/>
                <a:rect l="l" t="t" r="r" b="b"/>
                <a:pathLst>
                  <a:path fill="none" w="21489" h="13083">
                    <a:moveTo>
                      <a:pt x="21488" y="2189"/>
                    </a:moveTo>
                    <a:cubicBezTo>
                      <a:pt x="21078" y="6266"/>
                      <a:pt x="19537" y="10001"/>
                      <a:pt x="17187" y="13084"/>
                    </a:cubicBezTo>
                  </a:path>
                  <a:path stroke="0" w="21489" h="13083">
                    <a:moveTo>
                      <a:pt x="17186" y="13083"/>
                    </a:moveTo>
                    <a:cubicBezTo>
                      <a:pt x="17186" y="13088"/>
                      <a:pt x="17186" y="13093"/>
                      <a:pt x="17186" y="13098"/>
                    </a:cubicBezTo>
                    <a:cubicBezTo>
                      <a:pt x="17186" y="13113"/>
                      <a:pt x="17186" y="13127"/>
                      <a:pt x="17186" y="13141"/>
                    </a:cubicBezTo>
                    <a:lnTo>
                      <a:pt x="21488" y="2189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文本框 12339"/>
              <p:cNvSpPr/>
              <p:nvPr/>
            </p:nvSpPr>
            <p:spPr>
              <a:xfrm>
                <a:off x="6802200" y="53049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10014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文本框 12340"/>
              <p:cNvSpPr/>
              <p:nvPr/>
            </p:nvSpPr>
            <p:spPr>
              <a:xfrm>
                <a:off x="6441840" y="53049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10014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09" name="组合 12341"/>
              <p:cNvGrpSpPr/>
              <p:nvPr/>
            </p:nvGrpSpPr>
            <p:grpSpPr>
              <a:xfrm>
                <a:off x="5402880" y="4648320"/>
                <a:ext cx="1542960" cy="1827720"/>
                <a:chOff x="5402880" y="4648320"/>
                <a:chExt cx="1542960" cy="1827720"/>
              </a:xfrm>
            </p:grpSpPr>
            <p:sp>
              <p:nvSpPr>
                <p:cNvPr id="210" name="任意多边形 12342"/>
                <p:cNvSpPr/>
                <p:nvPr/>
              </p:nvSpPr>
              <p:spPr>
                <a:xfrm>
                  <a:off x="5583960" y="4736520"/>
                  <a:ext cx="998640" cy="6033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16871">
                      <a:moveTo>
                        <a:pt x="16633" y="0"/>
                      </a:moveTo>
                      <a:cubicBezTo>
                        <a:pt x="19735" y="3739"/>
                        <a:pt x="21600" y="8542"/>
                        <a:pt x="21600" y="13780"/>
                      </a:cubicBezTo>
                      <a:cubicBezTo>
                        <a:pt x="21600" y="14833"/>
                        <a:pt x="21525" y="15868"/>
                        <a:pt x="21380" y="16874"/>
                      </a:cubicBezTo>
                    </a:path>
                    <a:path stroke="0" w="21600" h="16871">
                      <a:moveTo>
                        <a:pt x="21377" y="16871"/>
                      </a:moveTo>
                      <a:cubicBezTo>
                        <a:pt x="21375" y="16574"/>
                        <a:pt x="21374" y="16274"/>
                        <a:pt x="21374" y="15973"/>
                      </a:cubicBezTo>
                      <a:cubicBezTo>
                        <a:pt x="21374" y="6203"/>
                        <a:pt x="22486" y="-1717"/>
                        <a:pt x="23857" y="-1717"/>
                      </a:cubicBezTo>
                      <a:cubicBezTo>
                        <a:pt x="25228" y="-1717"/>
                        <a:pt x="26340" y="6203"/>
                        <a:pt x="26340" y="15973"/>
                      </a:cubicBezTo>
                      <a:cubicBezTo>
                        <a:pt x="26340" y="16497"/>
                        <a:pt x="26337" y="17016"/>
                        <a:pt x="26331" y="17524"/>
                      </a:cubicBezTo>
                      <a:lnTo>
                        <a:pt x="16633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1" name="任意多边形 12343"/>
                <p:cNvSpPr/>
                <p:nvPr/>
              </p:nvSpPr>
              <p:spPr>
                <a:xfrm>
                  <a:off x="5493600" y="5705280"/>
                  <a:ext cx="1081440" cy="686160"/>
                </a:xfrm>
                <a:custGeom>
                  <a:avLst/>
                  <a:gdLst/>
                  <a:ahLst/>
                  <a:rect l="l" t="t" r="r" b="b"/>
                  <a:pathLst>
                    <a:path fill="none" w="21489" h="13977">
                      <a:moveTo>
                        <a:pt x="21488" y="2189"/>
                      </a:moveTo>
                      <a:cubicBezTo>
                        <a:pt x="21037" y="6667"/>
                        <a:pt x="19223" y="10734"/>
                        <a:pt x="16467" y="13977"/>
                      </a:cubicBezTo>
                    </a:path>
                    <a:path stroke="0" w="21489" h="13977">
                      <a:moveTo>
                        <a:pt x="16468" y="13977"/>
                      </a:moveTo>
                      <a:cubicBezTo>
                        <a:pt x="16468" y="13985"/>
                        <a:pt x="16468" y="13992"/>
                        <a:pt x="16468" y="14000"/>
                      </a:cubicBezTo>
                      <a:cubicBezTo>
                        <a:pt x="16468" y="14015"/>
                        <a:pt x="16468" y="14029"/>
                        <a:pt x="16468" y="14043"/>
                      </a:cubicBezTo>
                      <a:lnTo>
                        <a:pt x="21488" y="218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2" name="任意多边形 12344"/>
                <p:cNvSpPr/>
                <p:nvPr/>
              </p:nvSpPr>
              <p:spPr>
                <a:xfrm>
                  <a:off x="5947560" y="4648320"/>
                  <a:ext cx="998280" cy="6753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18915">
                      <a:moveTo>
                        <a:pt x="14702" y="0"/>
                      </a:moveTo>
                      <a:cubicBezTo>
                        <a:pt x="18945" y="3944"/>
                        <a:pt x="21600" y="9574"/>
                        <a:pt x="21600" y="15824"/>
                      </a:cubicBezTo>
                      <a:cubicBezTo>
                        <a:pt x="21600" y="16877"/>
                        <a:pt x="21525" y="17912"/>
                        <a:pt x="21380" y="18918"/>
                      </a:cubicBezTo>
                    </a:path>
                    <a:path stroke="0" w="21600" h="18915">
                      <a:moveTo>
                        <a:pt x="21377" y="18915"/>
                      </a:moveTo>
                      <a:cubicBezTo>
                        <a:pt x="21399" y="8680"/>
                        <a:pt x="22935" y="420"/>
                        <a:pt x="24826" y="420"/>
                      </a:cubicBezTo>
                      <a:cubicBezTo>
                        <a:pt x="26731" y="420"/>
                        <a:pt x="28275" y="8798"/>
                        <a:pt x="28275" y="19132"/>
                      </a:cubicBezTo>
                      <a:cubicBezTo>
                        <a:pt x="28275" y="19848"/>
                        <a:pt x="28268" y="20555"/>
                        <a:pt x="28253" y="21245"/>
                      </a:cubicBezTo>
                      <a:lnTo>
                        <a:pt x="14702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3" name="任意多边形 12345"/>
                <p:cNvSpPr/>
                <p:nvPr/>
              </p:nvSpPr>
              <p:spPr>
                <a:xfrm>
                  <a:off x="5856480" y="5705280"/>
                  <a:ext cx="1082160" cy="770760"/>
                </a:xfrm>
                <a:custGeom>
                  <a:avLst/>
                  <a:gdLst/>
                  <a:ahLst/>
                  <a:rect l="l" t="t" r="r" b="b"/>
                  <a:pathLst>
                    <a:path fill="none" w="21489" h="15679">
                      <a:moveTo>
                        <a:pt x="21488" y="2189"/>
                      </a:moveTo>
                      <a:cubicBezTo>
                        <a:pt x="20954" y="7488"/>
                        <a:pt x="18510" y="12216"/>
                        <a:pt x="14856" y="15679"/>
                      </a:cubicBezTo>
                    </a:path>
                    <a:path stroke="0" w="21489" h="15679">
                      <a:moveTo>
                        <a:pt x="14856" y="15678"/>
                      </a:moveTo>
                      <a:cubicBezTo>
                        <a:pt x="14856" y="15689"/>
                        <a:pt x="14856" y="15699"/>
                        <a:pt x="14856" y="15710"/>
                      </a:cubicBezTo>
                      <a:cubicBezTo>
                        <a:pt x="14856" y="15725"/>
                        <a:pt x="14856" y="15739"/>
                        <a:pt x="14856" y="15753"/>
                      </a:cubicBezTo>
                      <a:lnTo>
                        <a:pt x="21488" y="218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4" name="椭圆 12346"/>
                <p:cNvSpPr/>
                <p:nvPr/>
              </p:nvSpPr>
              <p:spPr>
                <a:xfrm>
                  <a:off x="5402880" y="5265000"/>
                  <a:ext cx="635400" cy="61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10014"/>
                      </a:solidFill>
                      <a:latin typeface="Times New Roman"/>
                    </a:rPr>
                    <a:t>+17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215" name="矩形 12347"/>
          <p:cNvSpPr/>
          <p:nvPr/>
        </p:nvSpPr>
        <p:spPr>
          <a:xfrm>
            <a:off x="494640" y="618660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01d3"/>
                </a:solidFill>
                <a:latin typeface="Times New Roman"/>
                <a:ea typeface="宋体"/>
              </a:rPr>
              <a:t>氯原子（</a:t>
            </a:r>
            <a:r>
              <a:rPr b="1" lang="en-US" sz="2800" spc="-1" strike="noStrike">
                <a:solidFill>
                  <a:srgbClr val="3801d3"/>
                </a:solidFill>
                <a:latin typeface="Times New Roman"/>
              </a:rPr>
              <a:t>Cl </a:t>
            </a:r>
            <a:r>
              <a:rPr b="1" lang="zh-CN" sz="2800" spc="-1" strike="noStrike">
                <a:solidFill>
                  <a:srgbClr val="3801d3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12348"/>
          <p:cNvSpPr/>
          <p:nvPr/>
        </p:nvSpPr>
        <p:spPr>
          <a:xfrm>
            <a:off x="4724280" y="618660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01d3"/>
                </a:solidFill>
                <a:latin typeface="Times New Roman"/>
                <a:ea typeface="宋体"/>
              </a:rPr>
              <a:t>氯离子（ </a:t>
            </a:r>
            <a:r>
              <a:rPr b="1" lang="en-US" sz="2800" spc="-1" strike="noStrike">
                <a:solidFill>
                  <a:srgbClr val="3801d3"/>
                </a:solidFill>
                <a:latin typeface="Times New Roman"/>
              </a:rPr>
              <a:t>Cl</a:t>
            </a:r>
            <a:r>
              <a:rPr b="1" lang="en-US" sz="4000" spc="-1" strike="noStrike" baseline="40000">
                <a:solidFill>
                  <a:srgbClr val="3801d3"/>
                </a:solidFill>
                <a:latin typeface="Times New Roman"/>
              </a:rPr>
              <a:t>- </a:t>
            </a:r>
            <a:r>
              <a:rPr b="1" lang="zh-CN" sz="2800" spc="-1" strike="noStrike">
                <a:solidFill>
                  <a:srgbClr val="3801d3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文本框 12349"/>
          <p:cNvSpPr/>
          <p:nvPr/>
        </p:nvSpPr>
        <p:spPr>
          <a:xfrm>
            <a:off x="7086600" y="41450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4b3e"/>
                </a:solidFill>
                <a:latin typeface="Times New Roman"/>
                <a:ea typeface="华文新魏"/>
              </a:rPr>
              <a:t>阳离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文本框 12350"/>
          <p:cNvSpPr/>
          <p:nvPr/>
        </p:nvSpPr>
        <p:spPr>
          <a:xfrm>
            <a:off x="7162920" y="61261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4b3e"/>
                </a:solidFill>
                <a:latin typeface="Times New Roman"/>
                <a:ea typeface="华文新魏"/>
              </a:rPr>
              <a:t>阴离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图片 12351" descr="pic_34074"/>
          <p:cNvPicPr/>
          <p:nvPr/>
        </p:nvPicPr>
        <p:blipFill>
          <a:blip r:embed="rId1"/>
          <a:srcRect l="0" t="0" r="34094" b="0"/>
          <a:stretch/>
        </p:blipFill>
        <p:spPr>
          <a:xfrm>
            <a:off x="0" y="0"/>
            <a:ext cx="9109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4:03:08Z</dcterms:created>
  <dc:creator/>
  <dc:description/>
  <dc:language>en-US</dc:language>
  <cp:lastModifiedBy>Administrator</cp:lastModifiedBy>
  <dcterms:modified xsi:type="dcterms:W3CDTF">2016-03-22T08:32:03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